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3F14-AB6F-4E09-97D5-71E4B7EA6E4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ginia Tech Masters of Information Technology graduate progra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4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5044, Object-oriented programming with Jav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4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se introduc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4257360"/>
            <a:ext cx="91440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141408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141408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425736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425736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425736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A784C-D620-4065-A463-EC50E7E5BC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414080"/>
            <a:ext cx="9144000" cy="54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73463-F527-4804-AFDE-A94538A2AB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31205-FDAD-4401-8691-3AAAA6122F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82D6E-4F64-4F1D-90DF-39C61DFEEE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4BC1E-8DE8-4A41-9132-3C645D6221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294840"/>
            <a:ext cx="9144000" cy="51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1A603-2C75-43B5-A21A-9A44892EF9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314C2-99D7-44A8-AABB-7DBB1F361D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1414080"/>
            <a:ext cx="9144000" cy="54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576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47F74-03AC-4AF0-9D59-0875952106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4257360"/>
            <a:ext cx="91440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95AA1-9A63-4C70-BDE5-C8DC2046CA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0" y="4257360"/>
            <a:ext cx="91440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C659F-7EB8-41F5-80E1-666EC90E71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8576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B9C15-0C2D-437E-A617-E27EE7A035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1680" y="141408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83360" y="141408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0" y="425736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1680" y="425736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183360" y="4257360"/>
            <a:ext cx="294408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6039D-0BBF-4B91-89DB-6F371B2E57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91440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294840"/>
            <a:ext cx="9144000" cy="51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425736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414080"/>
            <a:ext cx="44622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4257360"/>
            <a:ext cx="9144000" cy="2596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1414080"/>
            <a:ext cx="91440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0" y="1414080"/>
            <a:ext cx="9144000" cy="5443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61D8-A19A-4A30-93C8-8E2077BA3E0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6545160"/>
            <a:ext cx="9144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© 2010 Roger Ehri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86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731520"/>
            <a:ext cx="9144000" cy="291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S 374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UI Programming &amp; Graphic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3365640"/>
            <a:ext cx="9144000" cy="3001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- Intro to Graphics: OpenGL View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76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OpenGL View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hite Square Using GLUT: displa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 display (voi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clear all pixe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Clear (GL_COLOR_BUFFER_BI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raw white square with corners at (0.25, 0.25, 0.0) and (0.75, 0.75, 0.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Begin (GL_POLYGO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Vertex3f (0.25, 0.25, 0.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Vertex3f (0.75, 0.25, 0.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Vertex3f (0.75, 0.75, 0.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Vertex3f (0.25, 0.75, 0.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End 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n't wait, start processing buffered OpenGL routi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Flush (); }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237F-52E5-4C16-A372-3CE8C3A3773A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2C978-8A51-47DF-8AD0-A4569EA2BF5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86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OpenGL View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hite Square Using GLUT: mai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 main (int argc, char** argv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set up screen wind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utInit (&amp;argc, argv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utInitDisplayMode (GLUT_SINGLE | GLUT_RGB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utInitWindowSize (250, 25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utInitWindowPosition (100, 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utCreateWindow ("White Square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set up OpenGL and register callbac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 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utDisplayFunc (displa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utMainLoop 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 0;}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46BF-AF69-465B-A265-65F6CF047651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8C078-A7EA-4483-B986-A0242A6F107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96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OpenGL View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hite Square Using Java: ini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2 gl = drawable.getGL ().getGL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U glu = new GLU 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select clear (background) color and drawing color (whit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.glClearColor (0.0f, 0.0f, 1.0f, 0.0f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.glColor3f (1.0f, 1.0f, 1.0f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initialize viewing val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.glMatrixMode (GL2.GL_PROJECTIO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.glLoadIdentity 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u.gluOrtho2D (0.0f, 1.0f, 0.0f, 1.0f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68E8-BF25-46DC-9D55-08725603B55D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401C5-771E-4DAA-92B8-C63FF0FFA6F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206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OpenGL View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hite Square Using Java: displa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2 gl = drawable.getGL ().getGL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clear all pixe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.glClear (GL2.GL_COLOR_BUFFER_BI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raw white square with corners at (0.25, 0.25, 0.0) and (0.75, 0.75, 0.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.glBegin (GL2.GL_POLYGO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.glVertex3f (0.25f, 0.25f, 0.0f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.glVertex3f (0.75f, 0.25f, 0.0f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.glVertex3f (0.75f, 0.75f, 0.0f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.glVertex3f (0.25f, 0.75f, 0.0f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.glEnd 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n't wait, start processing buffered OpenGL routi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.glFlush 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B3C3-5595-4818-8272-4A3B7AC6ADF8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81A4B-D2F7-4F1E-9823-B43D5B13886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216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OpenGL View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itmapped Tex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lRasterPos2 (x, 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the current drawing position to (x, y) in world coordina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lutBitmapCharacter (font, charac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s a bitmapped iso8859-1 character with the lower left corner of the character at the current drawing position.  The current drawing position is updated after the character is drawn.  Fonts includ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LUT_BITMAP_8_BY_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LUT_BITMAP_TIMES_ROMAN_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LUT_BITMAP_HELVETICA_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drawing color must be specified before the call to glRasterPo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lutBitmapString (font, str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in standard OpenGL libraries but available in JOGL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8926-1BD5-48FF-B6F5-A2A0D6A292A7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97784-B286-4DC3-9F9D-46B8B8DE4040}" type="slidenum">
              <a:t>14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93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OpenGL View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rallel View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962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lMatrixMode (mo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lid modes are GL_PROJECTION and GL_MODELVIEW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lLoadIdentity 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t the current projection matrix to the identity matrix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lOrtho (left, right, bottom, top, near, far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 = (-1,1,-1,1,-1,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ts the window (view volume) in camera coordinat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luOrtho2D (left, right, bottom, top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 = (-1,1,-1,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D version of glOrth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968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lViewport (x, y, width, heigh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ts the size of the viewport – (x, y) is the lower left corner in pixel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8CA5-67A7-4B11-AC00-C7D65B595035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1085A-8839-4C9F-84BF-E89C6020192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03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OpenGL View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rallel View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7F76-04D2-4DEC-B0B8-28A9CC44F28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057400" y="1752480"/>
            <a:ext cx="452592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3F31A-B86F-43E9-BCE5-9D93BC8210B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OpenGL View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rallel Viewing Setu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96DD-46A9-4E57-910A-C133969A2CF0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295280" y="1639800"/>
            <a:ext cx="5486400" cy="452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A3A5C-0B3A-4E87-8EBF-958A0AD9CE1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25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OpenGL View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rallel Projection - NDC Space View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0826-6D97-4518-AB29-6DC974F3971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38080" y="1752480"/>
            <a:ext cx="7162920" cy="448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82450-7F52-43B8-A683-6DA4C26BD93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36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OpenGL View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ransforma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5000"/>
          </a:bodyPr>
          <a:p>
            <a:pPr marL="471960" indent="-434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Translate (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1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e object in world coordinates by (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1960" indent="-434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Scale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1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ale object about (0, 0, 0) by 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1960" indent="-434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Rotat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1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tate object in RH coordinate system CCW about origin b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grees about the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axis, viewed in the negative direc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1960" indent="-434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MultMatrix (matr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1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y a 4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4 transformation matrix by giving the 16 coefficients in column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1960" indent="-434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LoadMatrix (matr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1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lace the current 4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4 transformation matrix by a new matri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C561-F75F-4287-9C5A-3E64872E5062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0A25A-A333-49F4-AEBF-ECAA37D7354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46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OpenGL View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catenating Transforma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want to scale a master object with matrix S and then translate it with T to the correct position, ie, I = 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GL works as follows: Let T be a new transformation matrix and let C be the current transformation.  The new transformation C’ will be C’ = 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us if we make calls in order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get C’ = C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that the last transformation specified is the first one executed!  Thus to display the master object we would call glTranslat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lScale and then draw the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B127-A1BA-4610-8607-AA90AFF2C7D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29E0E-2D9D-4CF0-9958-F8EF531BD27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56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OpenGL View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hite Square Pseudoco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lizeAWindowPlease 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ClearColor (0.0, 0.0, 1.0, 0.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Clear (GL_COLOR_BUFFER_BI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Color3f (1.0, 1.0, 1.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Ortho (0.0, 1.0, 0.0, 1.0, -1.0, 1.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Begin (GL_POLYGO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Vertex3f (0.25, 0.25, 0.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Vertex3f (0.75, 0.25, 0.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Vertex3f (0.75, 0.75, 0.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Vertex3f (0.25, 0.75, 0.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End 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Flush 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pdateTheWindowAndCheckForEvents (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E944-B6AD-4141-BAD3-DA4498EDBE62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B4ED4-93C7-43C8-97DE-190B81D6C7D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0" y="0"/>
            <a:ext cx="9144000" cy="314280"/>
            <a:chOff x="0" y="0"/>
            <a:chExt cx="9144000" cy="314280"/>
          </a:xfrm>
        </p:grpSpPr>
        <p:sp>
          <p:nvSpPr>
            <p:cNvPr id="166" name=""/>
            <p:cNvSpPr/>
            <p:nvPr/>
          </p:nvSpPr>
          <p:spPr>
            <a:xfrm>
              <a:off x="0" y="0"/>
              <a:ext cx="9144000" cy="314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artment of Computer Sci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0" y="1387440"/>
            <a:ext cx="9144000" cy="1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6521400"/>
            <a:ext cx="9144000" cy="18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900080" cy="315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0" y="6535800"/>
            <a:ext cx="529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S 3744: OpenGL View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hite Square Using GLUT: ini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 init (voi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select clear (background) color and drawing color (whit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ClearColor (0.0, 0.0, 1.0, 0.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Color3f (1.0, 1.0, 1.0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initialize viewing val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MatrixMode (GL_PROJECTIO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LoadIdentity 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uOrtho2D (0.0, 1.0, 0.0, 1.0); }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448480" y="6540480"/>
            <a:ext cx="309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554A-2A76-4416-9A12-1517E248F1E3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2EA86-B578-4C98-840F-6E59FFED710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nis Gracanin</dc:creator>
  <dc:description/>
  <cp:keywords/>
  <dc:language>en-US</dc:language>
  <cp:lastModifiedBy>Roger Ehrich</cp:lastModifiedBy>
  <dcterms:modified xsi:type="dcterms:W3CDTF">2010-02-03T15:13:22Z</dcterms:modified>
  <cp:revision>100</cp:revision>
  <dc:subject/>
  <dc:title>Introduction</dc:title>
</cp:coreProperties>
</file>