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9168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83360" y="4058640"/>
            <a:ext cx="294408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295200"/>
            <a:ext cx="91440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405864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4058640"/>
            <a:ext cx="9144000" cy="2414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3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6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44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47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61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© 2010 Denis Gracan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8" name="Rectangle 3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61"/>
          <p:cNvSpPr/>
          <p:nvPr/>
        </p:nvSpPr>
        <p:spPr>
          <a:xfrm>
            <a:off x="0" y="6540480"/>
            <a:ext cx="8534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S 3744: Lay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8534520" y="6477120"/>
            <a:ext cx="609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ED07-059C-4604-BCD0-BDFC9D6462C9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1 – Layou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Generated Construct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TColor(float red, float green, float blue, float alpha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red = red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green = gree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blue = bl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alpha = alph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is better to replace the assignments by invocation of sett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a helper metho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ter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at ensures the range of values are between 0.0 and 1.0 (used within setter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other convenienc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Modified Construct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TColor(float red, float green, float blue, float alpha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Red(red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Green(gree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lue(b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Alpha(alph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setRed(float r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red = filter(red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float filter(floa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value &lt; 0) { return 0.0f;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value &gt; 1.0f) { return 1.0f;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 return value;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Chained Construct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TColo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(1.0f, 1.0f, 1.0f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TColor(VTColor col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(color.getRed(),color.getGreen(),color.getBlue(),color.getAlpha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TColor (float red, float green, float b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(red, green, blue, 1.0f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TColor(float red, float green, float blue, float alpha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Red(red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Green(gree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lue(b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Alpha(alph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Color Consta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 constants provide ready made colors used by the application develop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final VTColor BLACK = new VTColor(0.0f, 0.0f, 0.0f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final VTColor BLUE = new VTColor(0.0f, 0.0f, 1.0f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final VTColor GREEN = new VTColor(0.0f, 1.0f, 0.0f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final VTColor GREY = new VTColor(0.5f, 0.5f, 0.5f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final VTColor RED = new VTColor(1.0f, 0.0f, 0.0f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final VTColor WHITE = new VTColor(1.0f, 1.0f, 1.0f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Other color constants may be added in subsequent ver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Overriding Metho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 new"/>
                <a:ea typeface="Courie new"/>
              </a:rPr>
              <a:t>VTCol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inherits directly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(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verridden to “customize” the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API and review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Generating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doc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mm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ols-&gt;Analyze Javado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dentify class components that are missing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thos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om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required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on th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x Selec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javado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nt ta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be inse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6178680" cy="42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las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procedure has been followed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Dimen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Poi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 fiel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getter/setter metho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onstru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ride methods, 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helper metho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javadoc com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, describing GUIU components and layouts, are more complex and require additional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itial Framewor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2280" y="1447920"/>
            <a:ext cx="3429000" cy="502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04920" y="3809880"/>
            <a:ext cx="3124080" cy="2514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128160" y="144792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ounded Rectangle 8"/>
          <p:cNvSpPr/>
          <p:nvPr/>
        </p:nvSpPr>
        <p:spPr>
          <a:xfrm>
            <a:off x="228600" y="19810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28600" y="2666880"/>
            <a:ext cx="3276720" cy="373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197640" y="2666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ounded Rectangle 11"/>
          <p:cNvSpPr/>
          <p:nvPr/>
        </p:nvSpPr>
        <p:spPr>
          <a:xfrm>
            <a:off x="304920" y="316224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JPa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ounded Rectangle 12"/>
          <p:cNvSpPr/>
          <p:nvPr/>
        </p:nvSpPr>
        <p:spPr>
          <a:xfrm>
            <a:off x="1600200" y="19810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Contai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241200" y="38098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4419720" y="1447920"/>
            <a:ext cx="4572000" cy="5029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44197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EventListe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1"/>
          <p:cNvCxnSpPr>
            <a:stCxn id="200" idx="3"/>
          </p:cNvCxnSpPr>
          <p:nvPr/>
        </p:nvCxnSpPr>
        <p:spPr>
          <a:xfrm>
            <a:off x="1752120" y="3429000"/>
            <a:ext cx="26679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tailEnd len="med" type="arrow" w="med"/>
          </a:ln>
        </p:spPr>
      </p:cxnSp>
      <p:cxnSp>
        <p:nvCxnSpPr>
          <p:cNvPr id="206" name="Straight Arrow Connector 23"/>
          <p:cNvCxnSpPr/>
          <p:nvPr/>
        </p:nvCxnSpPr>
        <p:spPr>
          <a:xfrm flipH="1" flipV="1">
            <a:off x="3580560" y="1676160"/>
            <a:ext cx="8391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tailEnd len="med" type="arrow" w="med"/>
          </a:ln>
        </p:spPr>
      </p:cxnSp>
      <p:sp>
        <p:nvSpPr>
          <p:cNvPr id="207" name="TextBox 24"/>
          <p:cNvSpPr/>
          <p:nvPr/>
        </p:nvSpPr>
        <p:spPr>
          <a:xfrm>
            <a:off x="4495680" y="1905120"/>
            <a:ext cx="4419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i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Pane.paint(draw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hap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Pane.setSiz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Pane.do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8" name="Curved Connector 32"/>
          <p:cNvCxnSpPr>
            <a:stCxn id="201" idx="3"/>
          </p:cNvCxnSpPr>
          <p:nvPr/>
        </p:nvCxnSpPr>
        <p:spPr>
          <a:xfrm>
            <a:off x="3504960" y="2247480"/>
            <a:ext cx="1067400" cy="24771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Shape 36"/>
          <p:cNvCxnSpPr>
            <a:stCxn id="201" idx="3"/>
          </p:cNvCxnSpPr>
          <p:nvPr/>
        </p:nvCxnSpPr>
        <p:spPr>
          <a:xfrm>
            <a:off x="3505320" y="2247480"/>
            <a:ext cx="915120" cy="38487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you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Layou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tainer has an associated layout that is in charge of arranging the compon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hange in the associated layout is reflected in a change of the containers appear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Layou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provides five methods that can be used by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first try to do the layout directly with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Layou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o illustrate the layout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ayout process is implement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neric Algorith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from the top level contain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Pa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the size and the location of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the list of the childr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chi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ts size an position in the contain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 child is a container, invoke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Layout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otiate sizes, if nee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36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3"/>
            <p:cNvSpPr/>
            <p:nvPr/>
          </p:nvSpPr>
          <p:spPr>
            <a:xfrm>
              <a:off x="0" y="0"/>
              <a:ext cx="91440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0" y="-11160"/>
            <a:ext cx="1900080" cy="316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2708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2708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 the containment hierarchy and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layout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id Layout Algorith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the size (width and height) and the location (x and y) of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the list of the childr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r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colum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the next child (if it exis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he size of the child as width/numberOfColumns, height/numberOfRo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he position of the child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columnIndex * width / numberOf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+ rowIndex * height / numberOfR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out the chi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de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ntainer.doLayout(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l.getRows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0; j &lt; l.getColumns(); j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iterator.hasNext(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 child = (VTComponent) iterator.nex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TDimension size = new VTDimension(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Size().getWidth()/l.getColumns(), getSize().getHeight()/l.getRow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.setSize(siz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.setLocation(new VTPoint(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Location().getX() + j * getSize().getWidth()/l.getColumns(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Location().getY() + i * getSize().getHeight()/l.getRows()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hild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.doLayou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414080"/>
            <a:ext cx="9144000" cy="5062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1020600" y="1447920"/>
            <a:ext cx="7102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ramework Co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urrent version of the code is posted as an attachment to Homework Fo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 the code and familiarize with the stru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apture the grid layout functionality with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GridLayou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instead of putting it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Layou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ntain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yout uses a top-down approach to distributes the available space from the application wind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ic functionality is implement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ntaine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26" name="Rectangle 2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3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8" name="Line 4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axonom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819520" y="152388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23880" y="24382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ntai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80880" y="34290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267080" y="24382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Lab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895480" y="34290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Wind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895480" y="441972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7010280" y="15238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Lay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010280" y="24382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GridLay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traight Connector 12"/>
          <p:cNvSpPr/>
          <p:nvPr/>
        </p:nvSpPr>
        <p:spPr>
          <a:xfrm>
            <a:off x="4038480" y="1981080"/>
            <a:ext cx="12193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traight Connector 15"/>
          <p:cNvSpPr/>
          <p:nvPr/>
        </p:nvSpPr>
        <p:spPr>
          <a:xfrm flipH="1">
            <a:off x="2514600" y="1981080"/>
            <a:ext cx="12952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17"/>
          <p:cNvSpPr/>
          <p:nvPr/>
        </p:nvSpPr>
        <p:spPr>
          <a:xfrm flipH="1">
            <a:off x="7999560" y="1982880"/>
            <a:ext cx="2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19"/>
          <p:cNvSpPr/>
          <p:nvPr/>
        </p:nvSpPr>
        <p:spPr>
          <a:xfrm flipH="1">
            <a:off x="1371600" y="28954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1"/>
          <p:cNvSpPr/>
          <p:nvPr/>
        </p:nvSpPr>
        <p:spPr>
          <a:xfrm>
            <a:off x="2666880" y="2895480"/>
            <a:ext cx="12193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24"/>
          <p:cNvSpPr/>
          <p:nvPr/>
        </p:nvSpPr>
        <p:spPr>
          <a:xfrm flipH="1">
            <a:off x="3884760" y="3887640"/>
            <a:ext cx="2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7010280" y="34290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7010280" y="441972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Dim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7010280" y="54100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T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 the classes should be in a separate package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3744.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asses can be used in the same way as we use Swing classes to write an appl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lper class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Dim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T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ve a set of fields and the corresponding constructors, get/set methods, and constants (if necessar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or: red, green, b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ension: width, heigh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: x, 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are using a standard RGB space, we need three field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OpenGL includes transparency, we add the fourth fiel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ph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 in OpenGL, a fields is represented by a float value in the range 0.0 - 1.0, the same way it is done in OpenG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olor has an implicit alpha value of 1.0 or an explicit one provided in the constru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Tahoma (Body)"/>
                <a:ea typeface="Tahoma (Body)"/>
              </a:rPr>
              <a:t>alph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1.0 means that the color is completely opaque and an alpha value 0.0 means that the color is completely transpare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Initial Co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cs3744.gu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VTColo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float red, green, b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the cursor within the class code (e.g. in the mepty line after the fields decla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-click in the editor window and sel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ert Code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l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etter and Set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Methods Gene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TCol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click 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ene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424320" cy="4127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429000" cy="41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Generated Code (Method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Content Placeholder 2" descr=""/>
          <p:cNvPicPr/>
          <p:nvPr/>
        </p:nvPicPr>
        <p:blipFill>
          <a:blip r:embed="rId1"/>
          <a:stretch/>
        </p:blipFill>
        <p:spPr>
          <a:xfrm>
            <a:off x="-6480" y="1407960"/>
            <a:ext cx="915696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TColo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Constructor Gene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414080"/>
            <a:ext cx="9144000" cy="5062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click 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ene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429000" cy="413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3429000" cy="413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0:13:38Z</dcterms:created>
  <dc:creator>Denis Gracanin</dc:creator>
  <dc:description/>
  <cp:keywords/>
  <dc:language>en-US</dc:language>
  <cp:lastModifiedBy>Denis Gracanin</cp:lastModifiedBy>
  <cp:lastPrinted>2009-08-31T18:30:57Z</cp:lastPrinted>
  <dcterms:modified xsi:type="dcterms:W3CDTF">2010-02-23T12:57:36Z</dcterms:modified>
  <cp:revision>125</cp:revision>
  <dc:subject>CS 3744 Fall 2009</dc:subject>
  <dc:title>GUI Concepts</dc:title>
</cp:coreProperties>
</file>