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EBCF-3764-490A-A3E9-C6EDC58BF9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ginia Tech Masters of Information Technology graduate progra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5044, Object-oriented programming with Jav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se introduc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425736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70FAF-8665-4E42-9DF1-7A165E0E09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1123C-91A7-4122-BD7B-FA382AED7C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040D-C4F3-47A3-A891-9BBCE1508C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D8349-8AFC-4B45-B143-ADD443AAF7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7CEEE-B7C1-4D84-802F-BAAB9EFF50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294840"/>
            <a:ext cx="9144000" cy="51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52347-46C3-4591-9128-49CD35AEDC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8663-555A-423B-99FB-4F943964F6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576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5BACB-DA32-4782-881F-D4C063B576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5E885-8587-4030-AC8E-CF1058E7E9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0" y="425736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AB07-E4A4-475C-8852-4B6235459E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8576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888F2-6BD0-45B3-ACDE-B186676437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168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8336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168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8336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E3C2-AD1F-4F36-B5E8-DACA114A5F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294840"/>
            <a:ext cx="9144000" cy="51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94DB-AC86-4CD1-B77F-E8FCD1857667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545160"/>
            <a:ext cx="9144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© 2010 Roger Ehri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86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291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S 374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 Programming &amp; Graphic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3365640"/>
            <a:ext cx="9144000" cy="3001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 - Intro to Graphics: Buffers and Tex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74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Buffers and Text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ecifying the Texture Image Dat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lTexImage2D (target, level, internalformat, width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ight, border, format, type, imag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s a 2D texture and its forma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arg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usually GL_TEXTURE_2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lev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usually 0, specifies the mipmap reduction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internalform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number of color components, usu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 which is usually GL_RG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heigh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pecify texture dimensions,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bord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0 or 1, indicating whether there is a b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pecifies the texel format typically GL_RG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pecifies the type of pixel data, typically GL_UNSIGNED_BY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ima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array with the texel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83A7-6361-4604-ACBA-F88FE37B254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08645-2B8C-4639-AA6B-F564E485237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84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Buffers and Text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ecifying the Texture Effec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TexEnv (target, p_name, p_val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how the texture elements affect the frame buff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arg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usually GL_TEXTURE_EN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_name is usually GL_TEXTURE_ENV_MODE, in wh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p_value is usually GL_REPLACE if texels repl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buffer pixels or a more complicated function s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GL_BLEND or GL_AD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E45D-3919-487E-9AA6-D9DEDCF9862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009E2-86B6-43E1-8B28-A959FD24750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94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Buffers and Text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xtured Squa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8717-2A5D-488C-846C-D72D4AC10A6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44792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4479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define texwidth 6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define texheight 6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Suppose the texture is an RGB texture in the unsigned byte array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tex[texheight][texwidth][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Initialize the texture mapp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 init 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MatrixMode (GL_PROJECTIO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LoadIdentity 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uOrtho2D (-3.0, 1.0, -1.0, 1.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ClearColor (0.0, 0.0, 0.0, 0.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ShadeModel (GL_SMOO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PixelStorei (GL_UNPACK_ALIGNMENT,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Enable (GL_TEXTURE_2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67671-A9FB-4874-ADB7-67144002FC6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05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Buffers and Text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xtured Square (cont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6C90-DC53-4D6F-8E44-F58F1B3484A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44792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600200"/>
            <a:ext cx="9296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efine the texture repetition 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TexParameteri (GL_TEXTURE_2D, GL_TEXTURE_WRAP_S, GL_REPEA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TexParameteri (GL_TEXTURE_2D, GL_TEXTURE_WRAP_T, GL_REPEA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efine the tex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TexParameteri (GL_TEXTURE_2D, GL_TEXTURE_MAG_FILTER, GL_NEARES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TexParameteri (GL_TEXTURE_2D, GL_TEXTURE_MIN_FILTER, GL_NEARES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Specify the 2D texture im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TexImage2D (GL_TEXTURE_2D, 0, GL_RGB, texwidth, texheight, 0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_RGB, GL_UNSIGNED_BYTE, t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85642-B54F-4CA5-84BA-F1AB8622E0C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16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Buffers and Text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xtured Square (cont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0C43-F3D6-4C73-A722-C39653F96282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44792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447920"/>
            <a:ext cx="9296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 display (voi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Clear (GL_COLOR_BUFFER_BI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Set the texture environment to replace m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TexEnvf (GL_TEXTURE_ENV, GL_TEXTURE_ENV_MODE, GL_REPLAC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efine the sha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Begin (GL_QUAD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TexCoord2f (0.0, 0.0)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Vertex2f (-2.0, -1.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TexCoord2f (0.0, 1.0)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Vertex2f (-2.0,  1.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TexCoord2f (1.0, 1.0)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Vertex2f ( 0.0,  1.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TexCoord2f (1.0, 0.0)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Vertex2f ( 0.0, -1.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End 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Flush 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DC42B-C80F-4275-9038-BC4BD4872E68}" type="slidenum">
              <a:t>14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93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Buffers and Text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lor Buff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GL has many color buffers.  By default, OpenGL draws into GL_FRONT when in single buffer mode and into GL_BACK when in double buffer mode.  To select color buffer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DrawBuffer (mod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s the buffer or buffers into which drawing occurs. Some of the modes 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_FRO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_FRONT_LEF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_LEF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_RIGH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DrawPixels (width, height, format, type, pixel_buff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s a block of pixels to the frame buffer. Typical format would be GL_RGB a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ypical type would be GL_UNSIGNED_BYT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ReadPixels (x, y, width, height, format, type, pixel_buff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s a block of pixels from the frame buffer, where x, y is the location in scre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ordinates where the lower left corner of the desired block of pixels is locat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9083-947D-4C34-814C-ECD5150112A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44B72-21C2-4E6A-9E6D-E8E961239DC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03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Buffers and Text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lor Buff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486720" indent="-447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lCopyPixels (x, y, width, height, typ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ies a block of pixels whose lower left corner is at (x, y) in screen coordinates to corresponding positions in the frame buffer.  Typically this drawing position is set by a call to glRasterPosition.  type is typic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L_COL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6720" indent="-447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lPixelZoom (xfactor, yfacto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ring DrawPixels or CopyPixels, PixelZoom can multiply the number of pixels written.  For example, if xfactor and yfactor are both 2, each source pixel causes 4 pixels to be written.  xfactor and yfactor can be negativ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6720" indent="-447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lPixelStorei (GL_UNPACK_ALIGNMENT, 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up pixel packing/unpacking in processor memory. These particular parameters mean that each new row is byte-aligned in memory. There are both memory packing and memory unpacking parame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895D-8154-4962-A498-F52B3C4A1BF0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A88A0-B250-4BD0-B5D6-209A9D7355C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Buffers and Text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itmap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map is a rectangular array of 1s and 0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tmaps are stored in row order in multiples of 8 bi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Bitmap (width, height, xorig, yorig, xmove, ymove, bitm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dth and height are the dimensions of the bitmap in pixels. xorig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rig are offsets from the current raster position, with right and up be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ve values.  xmove and ymove are offsets applied to the dra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in screen coordinates after the bitmap has been drawn. Wherev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a 1 in the bitmap, the corresponding pixel is replaced by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drawing col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9C1D-EC11-4BF3-9D78-A90ADD66221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904BF-8DF0-4C63-9EC5-F7B1BEBF4DB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23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Buffers and Text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xture Mapp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ures are patterns that are mapped onto model surfa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ures can be 1D, 2D, or 3D, and they can be copied onto surfaces or blended with existing surface col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ures can be applied to all primiti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ures can be considered images of finite dimen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ure mappings may be complex if surfaces are curved because the textures must be finer for parts of the surface farther from the vie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exture patterns are smaller than the areas they are mapped to, care has to be taken to replicate the texture patterns proper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25BF-1208-4B94-9CDE-E78FBD8175B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1D947-BB96-43A5-93AE-5FFE2F177C9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33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Buffers and Text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xture Ma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T (s, t) be a texture pattern, where 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,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In OpenGL, textures come from images with dimensions which are powers of 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in world coordinates are functions of x, y, and z.  A texture element at (s, t) maps to world coordinates (x, y, z)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there are mapp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 = x (s, t)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 = y (s, t)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 = z (s, 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need the inverse func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= s (x, y, z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 = t (x, y, 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370A-5CA3-4D8E-AA9A-CEF166439F0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133720" y="5029200"/>
            <a:ext cx="4495680" cy="138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A005F-1933-4AD9-B612-3001ECA4F6D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44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Buffers and Text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2D Texture Mapping in OpenG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the texture space for OpenG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the texture to the su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view with the came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ociate a point in texture spac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each polygon vertex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let the texture be interpolated across the surface in the same way as co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306F-1F97-4FB6-AAC9-C843AFCBC07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268AD-3106-49A5-AB1F-B1F4E43C1DA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54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Buffers and Text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tting Up Texture Paramet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2000"/>
          </a:bodyPr>
          <a:p>
            <a:pPr marL="456840" indent="-420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TexParameter (target, p_name, p_val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exture paramet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arg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ypically GL_TEXTURE_1D or GL_TEXTURE_2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_name = GL_TEXTURE_WRAP_S defines what happ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 is not between 0 and 1.  Then p_value might 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_REPEAT or GL_CLAMP_TO_ED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_name = TEXTURE_MIN_FILTER defines what happ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pixel being textured maps to many texels.  T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_value might be GL_NEAREST.  Alternatively, OpenG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 lower resolution texture images called mipm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use the one where texel size best matches pixel si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10CE-A14E-466E-AB68-A5D03F661EF7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1FFCB-2D3D-4BAA-9ED6-F36CEE450F8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64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Buffers and Text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tting Up Texture Parameters (cont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TexParameter (target, p_name, p_val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exture paramet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_name = TEXTURE_MAG_FILTER defines what happ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pixel being textured maps to a fraction of a tex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p_value might be GL_NEAREST.  If p_value is set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_LINEAR, then the returned texel is the weigh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of the four surrounding texe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4F1A-5A16-4802-8727-EF95C32562FA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FF329-7A19-45E3-847D-C7EA5F5CA4B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nis Gracanin</dc:creator>
  <dc:description/>
  <cp:keywords/>
  <dc:language>en-US</dc:language>
  <cp:lastModifiedBy>Roger Ehrich</cp:lastModifiedBy>
  <dcterms:modified xsi:type="dcterms:W3CDTF">2010-04-21T15:10:11Z</dcterms:modified>
  <cp:revision>119</cp:revision>
  <dc:subject/>
  <dc:title>Introduction</dc:title>
</cp:coreProperties>
</file>