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0" y="405864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76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9168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336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9168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336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0" y="295200"/>
            <a:ext cx="9144000" cy="49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576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0" y="405864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576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9168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8336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9168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8336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0" y="295200"/>
            <a:ext cx="9144000" cy="49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576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0" y="405864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8576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09168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8336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09168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8336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295200"/>
            <a:ext cx="9144000" cy="49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76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Group 2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3" name="Rectangle 3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4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900080" cy="316080"/>
          </a:xfrm>
          <a:prstGeom prst="rect">
            <a:avLst/>
          </a:prstGeom>
          <a:ln w="0">
            <a:noFill/>
          </a:ln>
        </p:spPr>
      </p:pic>
      <p:sp>
        <p:nvSpPr>
          <p:cNvPr id="6" name="Line 5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44" name="Rectangle 3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Rectangle 4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900080" cy="316080"/>
          </a:xfrm>
          <a:prstGeom prst="rect">
            <a:avLst/>
          </a:prstGeom>
          <a:ln w="0">
            <a:noFill/>
          </a:ln>
        </p:spPr>
      </p:pic>
      <p:sp>
        <p:nvSpPr>
          <p:cNvPr id="47" name="Line 5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161"/>
          <p:cNvSpPr/>
          <p:nvPr/>
        </p:nvSpPr>
        <p:spPr>
          <a:xfrm>
            <a:off x="0" y="6540480"/>
            <a:ext cx="9144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© 2010 Denis Gracan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88" name="Rectangle 3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Rectangle 4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9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900080" cy="316080"/>
          </a:xfrm>
          <a:prstGeom prst="rect">
            <a:avLst/>
          </a:prstGeom>
          <a:ln w="0">
            <a:noFill/>
          </a:ln>
        </p:spPr>
      </p:pic>
      <p:sp>
        <p:nvSpPr>
          <p:cNvPr id="91" name="Line 5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Line 5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161"/>
          <p:cNvSpPr/>
          <p:nvPr/>
        </p:nvSpPr>
        <p:spPr>
          <a:xfrm>
            <a:off x="0" y="6540480"/>
            <a:ext cx="85345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S 3744: Pain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8534520" y="6477120"/>
            <a:ext cx="6094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0703-7EC9-4C56-BE6F-AB9B92F383CF}" type="slidenum">
              <a:rPr b="0" lang="en-US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S 374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UI Programming &amp; Graphic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2 – Pain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VTComponent</a:t>
            </a:r>
            <a:r>
              <a:rPr b="0" lang="en-US" sz="3600" spc="-1" strike="noStrike">
                <a:solidFill>
                  <a:srgbClr val="000000"/>
                </a:solidFill>
                <a:latin typeface="Tahoma Body"/>
                <a:ea typeface="Tahoma Body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nstructor without parameters is used to set default values of the fiel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TComponen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ackground = VTColor.GRAY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eground = VTColor.BLACK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isible =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tion = new VTPoint(0,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 = new VTDimension(0,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=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 = "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extend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Compon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hould includ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uper(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a first line of the construct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de: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VTComponent.paint()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Courier New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 "/>
                <a:ea typeface="Courier New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paint(GLAutoDrawable drawabl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L2 gl = drawable.getGL().getGL2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width = drawable.getWidth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height = drawable.getHeigh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height &lt;= 0 || width &lt;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x = (float) location.getX() / wid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y = (float) (height - location.getY()) / he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w = (float) size.getWidth() / wid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h = (float) size.getHeight() / he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7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de: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VTComponent.paint()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Courier New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 "/>
                <a:ea typeface="Courier New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w = (float) size.getWidth() / width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h = (float) size.getHeight() / height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gl.glColor3f(background.getRed(), background.getGreen(), background.getBlue(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gl.glBegin(GL2.GL_POLYGO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gl.glVertex3f(x, y, 0.0f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gl.glVertex3f(x, y - h, 0.0f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gl.glVertex3f(x + w, y - h, 0.0f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gl.glVertex3f(x + w, y, 0.0f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gl.glEnd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de: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VTContainer.paint(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@Overr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paint(GLAutoDrawable drawabl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per.paint(drawabl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terator iterator = children.iterato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iterator.hasNext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(VTComponent) iterator.next()).paint(drawabl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de: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VTFrame.init(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display(GLAutoDrawable drawable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entPane.paint(drawable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lor Constan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t of color constants (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now includ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L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Y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RK_GRA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AY (changed from GRE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E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GHT_GRA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GEN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I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ELL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de: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HomeworkFour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Courier New"/>
              </a:rPr>
              <a:t> 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HomeworkFour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TFrame frame = new VTFrame("Homework Four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TPanel panel = new VTPanel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.setLayout(new VTGridLayout(2,1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TLabel lab = new VTLabel("First", VTLabel.Alignment.CENTER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ab.setBackground(VTColor.GREE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ab.setForeground(VTColor.RED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.add(lab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TPanel tmp = new VTPanel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mp.setLayout(new VTGridLayout(1, 2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ab = new VTLabel("Second", VTLabel.Alignment.LEF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ab.setBackground(VTColor.B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ab.setForeground(VTColor.YELLOW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mp.add(lab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de: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HomeworkFour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Courier New"/>
              </a:rPr>
              <a:t> I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ab = new VTLabel("Third", VTLabel.Alignment.RIGH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ab.setBackground(VTColor.MAGENTA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ab.setForeground(VTColor.ORANG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mp.add(lab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.add(tmp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(pane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Size(400, 400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tr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omework Four Examp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1414080"/>
            <a:ext cx="9144000" cy="5062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"/>
          <p:cNvPicPr/>
          <p:nvPr/>
        </p:nvPicPr>
        <p:blipFill>
          <a:blip r:embed="rId2"/>
          <a:stretch/>
        </p:blipFill>
        <p:spPr>
          <a:xfrm>
            <a:off x="2057400" y="1447920"/>
            <a:ext cx="5025960" cy="50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ramework Co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urrent version of the code is posted as an attachment to Homework Four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W4V2.j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ncludes an updated version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meworkFour.jav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 the code and familiarize with the structu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you capture the text display functionality withi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Labe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? Where would you put the font informa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36" name="Rectangle 2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Rectangle 3"/>
            <p:cNvSpPr/>
            <p:nvPr/>
          </p:nvSpPr>
          <p:spPr>
            <a:xfrm>
              <a:off x="0" y="0"/>
              <a:ext cx="914400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8" name="Line 4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0" y="-11160"/>
            <a:ext cx="1900080" cy="3160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 the containment hierarchy and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 painting proce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omework Four Examp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1414080"/>
            <a:ext cx="9144000" cy="5062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2"/>
          <a:stretch/>
        </p:blipFill>
        <p:spPr>
          <a:xfrm>
            <a:off x="4038480" y="1447920"/>
            <a:ext cx="5024520" cy="50241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"/>
          <p:cNvPicPr/>
          <p:nvPr/>
        </p:nvPicPr>
        <p:blipFill>
          <a:blip r:embed="rId3"/>
          <a:stretch/>
        </p:blipFill>
        <p:spPr>
          <a:xfrm>
            <a:off x="38160" y="1447920"/>
            <a:ext cx="392436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ext Displa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98000"/>
          </a:bodyPr>
          <a:p>
            <a:pPr marL="37476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all Homework One and related GL and GLUT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71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ing is positioned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us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l.glRasterPos2f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– lower left corne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71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length of the string is provided b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lut.glutBitmapLength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71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tring is rendered us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lut.glutBitmapString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476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osition of the string in GUI coordinates can be determined by first determining the coordinates of the center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Labe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71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getLocation().getX() + getSize().getWidth() /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71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getLocation().getY() + getSize().getHeight() /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476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ardless of the alignment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ordinate of the string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is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= y + font_size /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476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lignment determin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ordinate of the string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ext Align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ment CENTER: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= x – string_length /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ment LEFT: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= getLocation().get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ment RIGHT: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= getLocation().getX()+getSize().getWidth()–string_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the GUI coordinates are determined, they are transformed to OpenGL coordina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omework Four Submiss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bmission includes al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jav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iles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3744.gu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ckage and related fold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3744\gu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ument al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jav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i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of the coding effort will be focused on two fi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TGridlayout.jav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move the code currently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TContainer.doLayout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determines the location and size of the components for the grid layou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TLabel.jav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rewri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aint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 to display the text.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LUT.BITMAP_TIMES_ROMAN_2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 a default fo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sure your program works regardless of the size of the application wind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versions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meworkFour.jav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ll be used for test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inting uses a top-down approach to paint the available space from the application window based on the location and size information set during the layout ste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basic functionality is implement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VTComponen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1" name="Group 1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242" name="Rectangle 2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Rectangle 3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4" name="Line 4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5" name="Picture 6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axonom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819520" y="1523880"/>
            <a:ext cx="198108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T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523880" y="2438280"/>
            <a:ext cx="19814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TContai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380880" y="3429000"/>
            <a:ext cx="19814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TPa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4267080" y="2438280"/>
            <a:ext cx="19814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TLab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2895480" y="3429000"/>
            <a:ext cx="19814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TWindo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2895480" y="4419720"/>
            <a:ext cx="19814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TFr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7010280" y="1523880"/>
            <a:ext cx="19814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TLay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7010280" y="2438280"/>
            <a:ext cx="19814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TGridLay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Straight Connector 12"/>
          <p:cNvSpPr/>
          <p:nvPr/>
        </p:nvSpPr>
        <p:spPr>
          <a:xfrm>
            <a:off x="4038480" y="1981080"/>
            <a:ext cx="12193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Straight Connector 15"/>
          <p:cNvSpPr/>
          <p:nvPr/>
        </p:nvSpPr>
        <p:spPr>
          <a:xfrm flipH="1">
            <a:off x="2514600" y="1981080"/>
            <a:ext cx="12952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Straight Connector 17"/>
          <p:cNvSpPr/>
          <p:nvPr/>
        </p:nvSpPr>
        <p:spPr>
          <a:xfrm flipH="1">
            <a:off x="7999560" y="1982880"/>
            <a:ext cx="28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Straight Connector 19"/>
          <p:cNvSpPr/>
          <p:nvPr/>
        </p:nvSpPr>
        <p:spPr>
          <a:xfrm flipH="1">
            <a:off x="1371600" y="2895480"/>
            <a:ext cx="8380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Straight Connector 21"/>
          <p:cNvSpPr/>
          <p:nvPr/>
        </p:nvSpPr>
        <p:spPr>
          <a:xfrm>
            <a:off x="2666880" y="2895480"/>
            <a:ext cx="12193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Straight Connector 24"/>
          <p:cNvSpPr/>
          <p:nvPr/>
        </p:nvSpPr>
        <p:spPr>
          <a:xfrm flipH="1">
            <a:off x="3884760" y="3887640"/>
            <a:ext cx="28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17"/>
          <p:cNvSpPr/>
          <p:nvPr/>
        </p:nvSpPr>
        <p:spPr>
          <a:xfrm>
            <a:off x="7010280" y="3429000"/>
            <a:ext cx="19814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TCol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18"/>
          <p:cNvSpPr/>
          <p:nvPr/>
        </p:nvSpPr>
        <p:spPr>
          <a:xfrm>
            <a:off x="7010280" y="4419720"/>
            <a:ext cx="19814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TDimen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19"/>
          <p:cNvSpPr/>
          <p:nvPr/>
        </p:nvSpPr>
        <p:spPr>
          <a:xfrm>
            <a:off x="7010280" y="5410080"/>
            <a:ext cx="19814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TPo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itial Framewor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52280" y="1447920"/>
            <a:ext cx="3429000" cy="5029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304920" y="3809880"/>
            <a:ext cx="3124080" cy="2514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128160" y="1447920"/>
            <a:ext cx="144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ounded Rectangle 8"/>
          <p:cNvSpPr/>
          <p:nvPr/>
        </p:nvSpPr>
        <p:spPr>
          <a:xfrm>
            <a:off x="228600" y="1981080"/>
            <a:ext cx="1219320" cy="53352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28600" y="2666880"/>
            <a:ext cx="3276720" cy="3733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197640" y="266688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Rounded Rectangle 11"/>
          <p:cNvSpPr/>
          <p:nvPr/>
        </p:nvSpPr>
        <p:spPr>
          <a:xfrm>
            <a:off x="304920" y="3162240"/>
            <a:ext cx="1447560" cy="53352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JPa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Rounded Rectangle 12"/>
          <p:cNvSpPr/>
          <p:nvPr/>
        </p:nvSpPr>
        <p:spPr>
          <a:xfrm>
            <a:off x="1600200" y="1981080"/>
            <a:ext cx="1905120" cy="53352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Contai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Box 13"/>
          <p:cNvSpPr/>
          <p:nvPr/>
        </p:nvSpPr>
        <p:spPr>
          <a:xfrm>
            <a:off x="241200" y="380988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4419720" y="1447920"/>
            <a:ext cx="4572000" cy="502920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Box 16"/>
          <p:cNvSpPr/>
          <p:nvPr/>
        </p:nvSpPr>
        <p:spPr>
          <a:xfrm>
            <a:off x="4419720" y="1447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EventListe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74" name="Straight Arrow Connector 21"/>
          <p:cNvCxnSpPr>
            <a:stCxn id="169" idx="3"/>
          </p:cNvCxnSpPr>
          <p:nvPr/>
        </p:nvCxnSpPr>
        <p:spPr>
          <a:xfrm>
            <a:off x="1752120" y="3429000"/>
            <a:ext cx="2667960" cy="2160"/>
          </a:xfrm>
          <a:prstGeom prst="straightConnector1">
            <a:avLst/>
          </a:prstGeom>
          <a:ln w="12600">
            <a:solidFill>
              <a:srgbClr val="000000"/>
            </a:solidFill>
            <a:prstDash val="lgDash"/>
            <a:miter/>
            <a:tailEnd len="med" type="arrow" w="med"/>
          </a:ln>
        </p:spPr>
      </p:cxnSp>
      <p:cxnSp>
        <p:nvCxnSpPr>
          <p:cNvPr id="175" name="Straight Arrow Connector 23"/>
          <p:cNvCxnSpPr/>
          <p:nvPr/>
        </p:nvCxnSpPr>
        <p:spPr>
          <a:xfrm flipH="1" flipV="1">
            <a:off x="3580560" y="1676160"/>
            <a:ext cx="839160" cy="2160"/>
          </a:xfrm>
          <a:prstGeom prst="straightConnector1">
            <a:avLst/>
          </a:prstGeom>
          <a:ln w="12600">
            <a:solidFill>
              <a:srgbClr val="000000"/>
            </a:solidFill>
            <a:prstDash val="lgDash"/>
            <a:miter/>
            <a:tailEnd len="med" type="arrow" w="med"/>
          </a:ln>
        </p:spPr>
      </p:cxnSp>
      <p:sp>
        <p:nvSpPr>
          <p:cNvPr id="176" name="TextBox 24"/>
          <p:cNvSpPr/>
          <p:nvPr/>
        </p:nvSpPr>
        <p:spPr>
          <a:xfrm>
            <a:off x="4495680" y="1905120"/>
            <a:ext cx="4419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it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e OpenG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he unit square 2D vie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pose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play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Pane.paint(drawab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hape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Pane.setSize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Pane.doLayout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77" name="Curved Connector 32"/>
          <p:cNvCxnSpPr>
            <a:stCxn id="170" idx="3"/>
          </p:cNvCxnSpPr>
          <p:nvPr/>
        </p:nvCxnSpPr>
        <p:spPr>
          <a:xfrm>
            <a:off x="3504960" y="2247480"/>
            <a:ext cx="1067400" cy="247716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8" name="Shape 36"/>
          <p:cNvCxnSpPr>
            <a:stCxn id="170" idx="3"/>
          </p:cNvCxnSpPr>
          <p:nvPr/>
        </p:nvCxnSpPr>
        <p:spPr>
          <a:xfrm>
            <a:off x="3505320" y="2247480"/>
            <a:ext cx="915120" cy="384876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GUI Coordinate System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 components have rectangle sha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ir position and size are specified in pixels (integer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rigin is in the upper left corner of the rendering ar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irection is from left to righ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irection is from top to botto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1371600" y="3962520"/>
            <a:ext cx="3048120" cy="2286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Straight Connector 6"/>
          <p:cNvSpPr/>
          <p:nvPr/>
        </p:nvSpPr>
        <p:spPr>
          <a:xfrm>
            <a:off x="1371600" y="4191120"/>
            <a:ext cx="3048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83" name="Straight Arrow Connector 8"/>
          <p:cNvCxnSpPr/>
          <p:nvPr/>
        </p:nvCxnSpPr>
        <p:spPr>
          <a:xfrm>
            <a:off x="1371600" y="4191120"/>
            <a:ext cx="1905840" cy="2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84" name="Straight Arrow Connector 10"/>
          <p:cNvCxnSpPr/>
          <p:nvPr/>
        </p:nvCxnSpPr>
        <p:spPr>
          <a:xfrm flipH="1">
            <a:off x="1369800" y="4192200"/>
            <a:ext cx="3600" cy="12200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5" name="TextBox 11"/>
          <p:cNvSpPr/>
          <p:nvPr/>
        </p:nvSpPr>
        <p:spPr>
          <a:xfrm>
            <a:off x="781560" y="396252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0,0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Oval 12"/>
          <p:cNvSpPr/>
          <p:nvPr/>
        </p:nvSpPr>
        <p:spPr>
          <a:xfrm>
            <a:off x="1328760" y="4114800"/>
            <a:ext cx="119160" cy="119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Box 13"/>
          <p:cNvSpPr/>
          <p:nvPr/>
        </p:nvSpPr>
        <p:spPr>
          <a:xfrm>
            <a:off x="2831760" y="391464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+x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Box 14"/>
          <p:cNvSpPr/>
          <p:nvPr/>
        </p:nvSpPr>
        <p:spPr>
          <a:xfrm>
            <a:off x="1012320" y="5133960"/>
            <a:ext cx="34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+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penGL Coordinate Syst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rigin is in the lower left corner of the rendering ar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irection is from left to righ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irection is from bottom to t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ordinates are real numbers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pper right corner has coordinat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1,1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1371600" y="3962520"/>
            <a:ext cx="3048120" cy="2286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Straight Connector 4"/>
          <p:cNvSpPr/>
          <p:nvPr/>
        </p:nvSpPr>
        <p:spPr>
          <a:xfrm>
            <a:off x="1371600" y="4191120"/>
            <a:ext cx="3048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5"/>
          <p:cNvCxnSpPr/>
          <p:nvPr/>
        </p:nvCxnSpPr>
        <p:spPr>
          <a:xfrm>
            <a:off x="1371600" y="6246360"/>
            <a:ext cx="1905840" cy="2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94" name="Straight Arrow Connector 6"/>
          <p:cNvCxnSpPr/>
          <p:nvPr/>
        </p:nvCxnSpPr>
        <p:spPr>
          <a:xfrm flipH="1">
            <a:off x="1369800" y="5028840"/>
            <a:ext cx="3600" cy="12200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arrow" w="med"/>
          </a:ln>
        </p:spPr>
      </p:cxnSp>
      <p:sp>
        <p:nvSpPr>
          <p:cNvPr id="195" name="TextBox 7"/>
          <p:cNvSpPr/>
          <p:nvPr/>
        </p:nvSpPr>
        <p:spPr>
          <a:xfrm>
            <a:off x="781560" y="606276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0,0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Box 8"/>
          <p:cNvSpPr/>
          <p:nvPr/>
        </p:nvSpPr>
        <p:spPr>
          <a:xfrm>
            <a:off x="2831760" y="620064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+x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1012320" y="5133960"/>
            <a:ext cx="34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+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1328760" y="6172200"/>
            <a:ext cx="119160" cy="119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Oval 11"/>
          <p:cNvSpPr/>
          <p:nvPr/>
        </p:nvSpPr>
        <p:spPr>
          <a:xfrm>
            <a:off x="4343400" y="4148280"/>
            <a:ext cx="119160" cy="118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Box 12"/>
          <p:cNvSpPr/>
          <p:nvPr/>
        </p:nvSpPr>
        <p:spPr>
          <a:xfrm>
            <a:off x="4420080" y="403848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1,1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de: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VTFrame.init(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init(GLAutoDrawable drawabl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rawable.setGL(new DebugGL2(drawable.getGL().getGL2()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L2 gl = drawable.getGL().getGL2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l.setSwapInterval(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LU glu = new GLU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l.glClearColor(0.0f, 0.0f, 1.0f, 0.0f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l.glColor3f(1.0f, 1.0f, 1.0f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l.glMatrixMode(GL2.GL_PROJECTIO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l.glLoadIdentity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lu.gluOrtho2D(0.0f, 1.0f, 0.0f, 1.0f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ransformation from GUI to OpenG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d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eigh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he rendering area (in pixels) are retrieved from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LAutoDraw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etWidth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etHeight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57200" y="2870280"/>
          <a:ext cx="8381880" cy="322560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rn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penG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pper le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0,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0,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ttom le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0,height–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0,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ttom r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width-1,height–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1,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pper r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width-1,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1,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paint()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etho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GUI component has a backgrou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background can be painted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Compon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’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int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(uses the background color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every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int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should first invoke it’s parent class’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paint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uper.paint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the class’ functionality, the foreground color is used  to paint foreground. (e.g. text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Lab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03:47:52Z</dcterms:created>
  <dc:creator>Denis Gracanin</dc:creator>
  <dc:description/>
  <cp:keywords/>
  <dc:language>en-US</dc:language>
  <cp:lastModifiedBy>Denis Gracanin</cp:lastModifiedBy>
  <cp:lastPrinted>2009-08-31T18:30:57Z</cp:lastPrinted>
  <dcterms:modified xsi:type="dcterms:W3CDTF">2010-02-27T19:30:32Z</dcterms:modified>
  <cp:revision>143</cp:revision>
  <dc:subject>CS 3744 Fall 2009</dc:subject>
  <dc:title>GUI Concepts</dc:title>
</cp:coreProperties>
</file>