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Midterm Exam</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C845-7F2D-4DDB-84DC-A3D8087D19B7}"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6 – Midterm Exam</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ructions</a:t>
            </a:r>
            <a:endParaRPr b="0" lang="en-US" sz="3600" spc="-1" strike="noStrike">
              <a:solidFill>
                <a:srgbClr val="000000"/>
              </a:solidFill>
              <a:latin typeface="Tahoma"/>
            </a:endParaRPr>
          </a:p>
        </p:txBody>
      </p:sp>
      <p:sp>
        <p:nvSpPr>
          <p:cNvPr id="136"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answering questions, fill in your name and ID number. Before you turn in your exam, sign bellow testifying that you have neither given nor received aid on this exam. UNSIGNED EXAMS WILL NOT BE ACCEPTED!</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closed book exam. You are not allowed to consult any textbooks, notes or any other material (printed, online, electronic, etc.)</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roblem question solution must include an explanation. An answer without an explanation is worth no credi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your answers in the space provided on the exam sheets. Your answers must fit in the given space. If needed, use both sides of the paper.</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RGINIA TECH HONOR SYSTEM</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mptly to the HONOR SYSTEM violation of the Honor Code.</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ve a vacant seat on each side of you if possible.</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courtesy to others be quiet during the exam.</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7:54:32Z</dcterms:created>
  <dc:creator>Denis Gracanin</dc:creator>
  <dc:description/>
  <cp:keywords/>
  <dc:language>en-US</dc:language>
  <cp:lastModifiedBy>Denis Gracanin</cp:lastModifiedBy>
  <cp:lastPrinted>2010-02-27T19:30:59Z</cp:lastPrinted>
  <dcterms:modified xsi:type="dcterms:W3CDTF">2010-03-13T21:22:43Z</dcterms:modified>
  <cp:revision>179</cp:revision>
  <dc:subject>CS 3744 Fall 2009</dc:subject>
  <dc:title>GUI Concepts</dc:title>
</cp:coreProperties>
</file>