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Event Hand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33D-002B-4AE1-B7A9-A70806BF777F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3 – Event Hand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Introsp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JavaBeans API provides event-oriented naming rules to give introspecting tools the ability to discover what events a bean can fi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ean that is the source of an event must implement methods that add and remove listener objects for that even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aming rules for these methods are the follow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dd&lt;EventListenerType&gt;(&lt;EventListenerType&gt; 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emove&lt;EventListenerType&gt;(&lt;EventListenerType&gt;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let a source bean know where to fire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urce bean then fires events at those listener beans using the methods for those particular inte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1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ing Custom Ev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UI component generating the even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t object generated by the GUI componen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ener interface for the even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6183360" y="5635800"/>
            <a:ext cx="2674800" cy="753840"/>
          </a:xfrm>
          <a:prstGeom prst="roundRect">
            <a:avLst>
              <a:gd name="adj" fmla="val 2272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TAction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9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6218280" y="3840120"/>
            <a:ext cx="2639880" cy="92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17440" y="3908520"/>
            <a:ext cx="2936880" cy="233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TBut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3782880" y="5075280"/>
            <a:ext cx="193212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TAction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3165120" y="546408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5715000" y="4618080"/>
            <a:ext cx="503280" cy="86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183360" y="5646600"/>
            <a:ext cx="21495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Event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28600" y="5692680"/>
            <a:ext cx="276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addVTActionListen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removeVTActionListen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8600" y="3965400"/>
            <a:ext cx="214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Listener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114800" y="510552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Event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6264360" y="4495680"/>
            <a:ext cx="17366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actionPeform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22"/>
          <p:cNvSpPr/>
          <p:nvPr/>
        </p:nvSpPr>
        <p:spPr>
          <a:xfrm rot="5400000">
            <a:off x="7005240" y="5029200"/>
            <a:ext cx="880920" cy="353880"/>
          </a:xfrm>
          <a:prstGeom prst="rightArrow">
            <a:avLst>
              <a:gd name="adj1" fmla="val 32000"/>
              <a:gd name="adj2" fmla="val 142248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1828800" y="5337000"/>
            <a:ext cx="130320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 Italic"/>
                <a:ea typeface="Courier New Italic"/>
              </a:rPr>
              <a:t>fireEv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V="1">
            <a:off x="1920240" y="4125600"/>
            <a:ext cx="4297320" cy="3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stom Ev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ustom event object should contain all information necessary for the custom listener to figure out what happe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normally extend the some abstract event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VTActionEvent extends ... {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VTActionEvent(Object o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uper(o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0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2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stom Event Listen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t listener interface defines the methods used by a component to dispatch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vent type will have at least one corresponding dispatch method in a listener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s normally extend a common event listener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VTActionListener extends VTEventListener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void actionPerformed(VTActionEvent 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8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stom Compo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stom component provides methods to add and remove listeners as well as to fire custom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f listeners is maintained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ddVTActionListener(VTActionListener listener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isteners.add(listener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emoveVTActionListener(VTActionListener listener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isteners.remove(listener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 void fireVTActionEvent(VTActionEvent e) {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for each listener in the li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((VTActionListener) listener).actionPerformed(e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1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button GUI componen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at gener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button was cli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he correspo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the singl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(VTActionEvent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he correspo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ent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low-level events (keyboard, mouse) from the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root event class and the event listener inte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basic keyboard and mouse event classes as well as the corresponding liste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class for the semantic event and the corresponding liste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event dispatc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se event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 component producing semantic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apter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test program to verify the event sup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lecting Low-Level Ev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wing to collect keyboard and mouse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Event/KeyListener (keyType, keyPressed, keyRelea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Event/MouseListener (mouseClicked, mouseEntered, mouseExited, mousePressed, mouseReleas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MotionEvent/MouseMotionListener (mouseDragged, mouseMov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seWheelEvent (mouseWheelMov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itial Frame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2280" y="1447920"/>
            <a:ext cx="3429000" cy="502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3809880"/>
            <a:ext cx="3124080" cy="2514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128160" y="1447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ounded Rectangle 8"/>
          <p:cNvSpPr/>
          <p:nvPr/>
        </p:nvSpPr>
        <p:spPr>
          <a:xfrm>
            <a:off x="228600" y="19810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28600" y="2666880"/>
            <a:ext cx="3276720" cy="373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197640" y="2666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304920" y="316224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J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ounded Rectangle 12"/>
          <p:cNvSpPr/>
          <p:nvPr/>
        </p:nvSpPr>
        <p:spPr>
          <a:xfrm>
            <a:off x="1600200" y="19810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ntai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241200" y="38098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419720" y="1447920"/>
            <a:ext cx="4572000" cy="5029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Box 16"/>
          <p:cNvSpPr/>
          <p:nvPr/>
        </p:nvSpPr>
        <p:spPr>
          <a:xfrm>
            <a:off x="4419720" y="14479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EventListen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Listen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Listener, MouseMotionListener, MouseWheel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" name="Straight Arrow Connector 21"/>
          <p:cNvCxnSpPr>
            <a:stCxn id="234" idx="3"/>
          </p:cNvCxnSpPr>
          <p:nvPr/>
        </p:nvCxnSpPr>
        <p:spPr>
          <a:xfrm>
            <a:off x="1752120" y="3429000"/>
            <a:ext cx="26679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cxnSp>
        <p:nvCxnSpPr>
          <p:cNvPr id="240" name="Straight Arrow Connector 23"/>
          <p:cNvCxnSpPr/>
          <p:nvPr/>
        </p:nvCxnSpPr>
        <p:spPr>
          <a:xfrm flipH="1" flipV="1">
            <a:off x="3580560" y="1676160"/>
            <a:ext cx="8391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cxnSp>
        <p:nvCxnSpPr>
          <p:cNvPr id="241" name="Curved Connector 32"/>
          <p:cNvCxnSpPr>
            <a:stCxn id="235" idx="3"/>
          </p:cNvCxnSpPr>
          <p:nvPr/>
        </p:nvCxnSpPr>
        <p:spPr>
          <a:xfrm>
            <a:off x="3504960" y="2247480"/>
            <a:ext cx="1067400" cy="2477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hape 36"/>
          <p:cNvCxnSpPr>
            <a:stCxn id="235" idx="3"/>
          </p:cNvCxnSpPr>
          <p:nvPr/>
        </p:nvCxnSpPr>
        <p:spPr>
          <a:xfrm>
            <a:off x="3505320" y="2247480"/>
            <a:ext cx="915120" cy="384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ent Taxonom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separate package for event related class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3744.gui.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root abstract event clas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abstract input event clas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Input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low-level event classe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Key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Mouse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semantic-level event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Group 32"/>
          <p:cNvGrpSpPr/>
          <p:nvPr/>
        </p:nvGrpSpPr>
        <p:grpSpPr>
          <a:xfrm>
            <a:off x="2895480" y="4038480"/>
            <a:ext cx="6172200" cy="2362320"/>
            <a:chOff x="2895480" y="4038480"/>
            <a:chExt cx="6172200" cy="2362320"/>
          </a:xfrm>
        </p:grpSpPr>
        <p:sp>
          <p:nvSpPr>
            <p:cNvPr id="246" name="Rectangle 3"/>
            <p:cNvSpPr/>
            <p:nvPr/>
          </p:nvSpPr>
          <p:spPr>
            <a:xfrm>
              <a:off x="5486400" y="4038480"/>
              <a:ext cx="19810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TEv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4038480" y="495288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TInputEv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5"/>
            <p:cNvSpPr/>
            <p:nvPr/>
          </p:nvSpPr>
          <p:spPr>
            <a:xfrm>
              <a:off x="2895480" y="594360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TKeyEv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6705360" y="4952880"/>
              <a:ext cx="2362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TActionEv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7"/>
            <p:cNvSpPr/>
            <p:nvPr/>
          </p:nvSpPr>
          <p:spPr>
            <a:xfrm>
              <a:off x="5410080" y="594360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TMouseEv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Straight Connector 12"/>
            <p:cNvSpPr/>
            <p:nvPr/>
          </p:nvSpPr>
          <p:spPr>
            <a:xfrm>
              <a:off x="6705360" y="4495680"/>
              <a:ext cx="1181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Straight Connector 15"/>
            <p:cNvSpPr/>
            <p:nvPr/>
          </p:nvSpPr>
          <p:spPr>
            <a:xfrm flipH="1">
              <a:off x="5181480" y="449568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Straight Connector 19"/>
            <p:cNvSpPr/>
            <p:nvPr/>
          </p:nvSpPr>
          <p:spPr>
            <a:xfrm flipH="1">
              <a:off x="4038480" y="5409360"/>
              <a:ext cx="8380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Straight Connector 21"/>
            <p:cNvSpPr/>
            <p:nvPr/>
          </p:nvSpPr>
          <p:spPr>
            <a:xfrm>
              <a:off x="5333760" y="5410080"/>
              <a:ext cx="12189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midterm exam and schedu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low-level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semantic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support for event in a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ent Dispatc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6000"/>
          </a:bodyPr>
          <a:p>
            <a:pPr marL="36720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handlers for all keyboard and mouse generated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 events have the coordinates where the vent took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 events do not have coordinates – how do we know to which component to dispatch 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a similar strategy a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Layou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, the event can be dispatched to the component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atchEven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event is dispatch to the component, it can be process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Even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w-level mouse event (mouse click)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is “converted” in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20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eric Event Dispatch Algorith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from the top level container (contentPa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size and the location of the com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event is not located within the component, return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list of the child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chi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child check if the even is located in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child returns true, return tr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children return false, process the event and return tr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Ev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the input (key characters) is generated by a keyboard, there is no location for the ev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the event is delivered to the component that has the foc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we can remember the last location of some mouse event and use it to determine foc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location is then assigned to the key event and used when dispatching the ev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mantic Ev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can be generated within the component as a response to some low-level ev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 receives a mouse click event, the component can then crea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and invo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f al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Action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e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thing can happen i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 receives a key event as a result of pres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 on the keybo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t handling uses a top-down approach to find a component to which the low-level event is to be deliver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onent may react to the low-level event by producing a semantic ev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functionality is implemen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TEven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6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hedule for March 15-1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5: a make-up lecture scheduled in the evening. Review of the midterm exam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6: a regular lecture used for the midterm ex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7: a make-up lecture scheduled in the evening. Review of several cross-platform GUI framewor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8: a regular lecture. Review of the GUI frameworks for mobile devices. The last GUI related l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term Exam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Rectangle 10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1569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ing Support for Ev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Homework Four we have created a framework that supports  a basic sets of GUI component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 a simple layou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resulting applications were “write-only”, the user is not able to provide in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can be provided as a textual input (keyboard) or as a “cursor input” (mou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put has to be asynchronous, i.e. it must not block or slow-down the user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vent-driven programming paradigm must b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example: add support for a clickable bu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in Event Loo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programming follows a more iterative path, unlike traditional sequential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 ! Button() 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u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 ! Event() 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1"/>
          <a:stretch/>
        </p:blipFill>
        <p:spPr>
          <a:xfrm>
            <a:off x="254160" y="2665440"/>
            <a:ext cx="778500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ans Proper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: a bean property with a single value whose changes are independent of changes in any other proper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d: a bean property that supports a range of values instead of a single val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: a bean property for which a change to the property results in a notification being sent to some other bea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: a bean property for which a change to the property results in validation by another bean. The other bean may reject the change if it is not appropri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5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ent Typ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groups: low-level events and semantic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level events represent window-system occurrences or low-level in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low-level events include mouse and key events both of which result directly from user in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events: everything e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semantic events include action and item events. A semantic event might be triggered by user input; however, some semantic events are not triggered by low-level events. For example, a table-model event might be fired when a table model receives new data from a datab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possible, you should listen for semantic events rather than low-level events. That makes your code as robust and portable as possible (e.g. use different look-and-fee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 Proper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 properties suppor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ever a bound property changes, notification of the change is sent to interested listen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cessor methods for a bound property are defined in the same way as those for simple proper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also need to provide the event listener registration methods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es and fir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s by calling thei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venien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Sup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enables your bean to implement these metho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encapsulates property change information and us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h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4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36:01Z</dcterms:created>
  <dc:creator>Denis Gracanin</dc:creator>
  <dc:description/>
  <cp:keywords/>
  <dc:language>en-US</dc:language>
  <cp:lastModifiedBy>Denis Gracanin</cp:lastModifiedBy>
  <cp:lastPrinted>2010-02-27T19:30:59Z</cp:lastPrinted>
  <dcterms:modified xsi:type="dcterms:W3CDTF">2010-03-04T10:41:23Z</dcterms:modified>
  <cp:revision>155</cp:revision>
  <dc:subject>CS 3744 Fall 2009</dc:subject>
  <dc:title>GUI Concepts</dc:title>
</cp:coreProperties>
</file>