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299E-B584-4B99-A8D5-B2CCD18BB6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ginia Tech Masters of Information Technology graduate progra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044, Object-oriented programming with Jav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introdu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02E3-4CDA-4D1D-8628-DF3DEC5BBD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18C4-92CA-4293-AC5B-A442E79A1B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3EE7-F471-4C9E-83FF-8F697292DF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517A-AFF9-4602-BB18-71B4F5251F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84B5-0B14-43EC-9F3B-3066BD9A43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71FF-832E-49D3-84E7-3E3E12A258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E43A-2F4D-4190-B991-40738CF71B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5FC2-FE32-4DE4-9DF7-EC357F4FA4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1374-E5A5-4805-B995-08F166BE9D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6894-860D-4C28-B240-5FF21B5A3C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4993-4309-4430-B010-DF1B0A1440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316E-BD2F-4DF9-B30B-325AD42E74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6F65-BBEE-4B9A-8056-BA833ECABD0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54516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© 2010 Roger Ehri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8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291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 374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 Programming &amp; Graph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3365640"/>
            <a:ext cx="9144000" cy="3001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1 - Intro to Graphics: Scan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7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resenham Circle Algorithm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en x increases by 1,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increases by u, u increases by 2, and E increases by 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y decreases by 1,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decreases by v, v decreases by 2, and E would become smaller by v, ie, |E - v| &lt; |E|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o, we want |E - v| &lt; |E|, in other words, decreasing y wou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ecrease the error.  Equivalently, want (E - v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&lt;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 (v - 2E) &lt; 0 or, since v &gt; 0, v &lt; 2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itially:   x = 0,  y = r,  u = 1,  v = 2r - 1,  E =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CD5B-5F7C-451A-9775-9E6D9201378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0173-D669-4AFA-9027-0C824F6DBA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8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resenham Circle Algorithm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final algorithm is therefo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x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e + 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u +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(v &lt; 2 * e) 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y -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e -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v -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8544-CA73-47A1-88B4-32BA0CFD2D7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9020-EFA5-4EAB-B240-C355936F365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9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tiali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liasing error occurs when continuous drawing primitives such as lines are sampled rather than drawn exac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creasing resolution decreases the aliasing error but increases hardware co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C0B8-3C50-42C5-B95A-DDC2C9EC4A3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238880" cy="250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62B4-F828-4084-8D78-5CB113DA11C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07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weighted Area Sampl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lthough an ideal line primitive has zero width, real primitives have nonzero width.  So consider lines to be area primitives and consider pixels as though they were small adjacent squ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762C-1041-418D-87EC-3D298DCCF0F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3809880" cy="1959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3733920" cy="1919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733920" y="5410080"/>
            <a:ext cx="1600200" cy="8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2853-28C2-4E73-B8F8-AFB3334E38B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20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weighted Area Sampling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2000"/>
          </a:bodyPr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he problem is the computation of the fraction of each pixel under the line, which is complicated by the dependence on line ori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n approximation – supersampl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stimate the number of superpixels inside th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EDA3-1F2F-4D62-924B-501614CD867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124080" y="2819520"/>
            <a:ext cx="328608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9893-3386-433A-9D10-DFE62D172B9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eighted Area Sampl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4000"/>
          </a:bodyPr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n intersected area near the line center should have greated weight than one farther a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et W (x, y) be a positive weighting function with unit volume, typically conical or Gaussian-li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mpute the intersected volume when W (x, y) is placed at a pixel ce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or computational reasons, select a circularly symmetric fun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510B-2C38-4297-A642-D672BDD1845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4438800" cy="186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59C7-86D1-4122-B075-04C12191D29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42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upta-Sproull Antiali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Use a circularly symmetric weighting function and precompute a function V (D, t) that gives the intersected volume of W (x, y) centered at a pixel a distance D from the center of a line of width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upta uses a conical filter W (x, y) of unit radius.  This is a special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f image convolution: 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W (x, y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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I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) W(x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, y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) 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5729-DE74-4DB3-89E1-ED6A176D7C4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133720" y="2514600"/>
            <a:ext cx="4267080" cy="26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D37A-80B4-4267-9117-F463D471D1D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5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x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ften an instance falls outside the current window.  To avoid transforming and scan converting such an instance, draw a tight box around the master object and check for trivial rejection of a box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9166-53C3-434B-A005-F4DC7911C55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324480" cy="28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D34D-D97D-41A7-AA0F-618293BFBEC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6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pp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requently much of the world model is outside the window and hence invisible.  We need to eliminate invisible parts of the model before we attempt scan convers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he visibility conditions for a point (x, y)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≤  x  ≤ 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≤  y  ≤ 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or a finite line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x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-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 =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-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ind the range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for which the above conditions are satisfi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D4B6-9625-4FCD-AE23-8B4126EC443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BA02-5E15-4A53-96B2-356F40585B3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7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hen-Sutherland Clipp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vide the 2D plane into 9 regions.  The center region corresponds to the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each endpoint p, construct a 4-bit code B to specify the relationship of p to the four window bounda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7A26-DEE4-49B0-880F-CE8B5ACCD96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3443400" cy="305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57CD-455E-43EE-9CE5-F9F536E4692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ine Scan Conversion: D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line betwe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pe is m = t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≤ 4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t the nth column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 t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+ 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asic Algorith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t R = 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* Add t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 &gt; 1 then (NE and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– 1) else 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 To 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F32C-577B-4111-893C-0700303B40F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5059-44FD-40A2-B62C-22935729712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8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hen-Sutherland Clipping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 =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1 if p &gt;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1 if p &lt;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1 if p &gt;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1 if p &lt;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rivial rejection of li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rivial acceptance of li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A573-7D02-42F6-841C-662CCC5221E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65F4-9F7A-4E33-9941-99AA5BD85B5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9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hen-Sutherland Clipping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5000"/>
          </a:bodyPr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hen Sutherland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mpute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f TA, draw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exit, else if TR,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lip to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recompute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f TA, draw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exit, else if TR,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lip to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recompute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f TA, draw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exit, else if TR,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lip to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recompute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f TA, draw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exit, else if TR,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lip to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recompute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f TA, draw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nd exit, else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B22A-F5E1-4E5D-96BF-1D4CA090A95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401B-F647-4340-8026-80BB8FBB0D1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0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hen-Sutherland Clipping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clipping equations are simple.  For example, to clip to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 assuming that the line is (a, b, c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x, y, 1) =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x + b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+ c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o tha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 = - (b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+ c) /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nd (x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is the clip 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8C7D-7F34-497F-B6B4-AA8D7ADC551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4912-3680-4C95-8ACD-BFB809A86B7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1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dpoint Subdivi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n a finite discrete space of dimension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, a recursive algorithm is easily impleme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ivide the line at the midpoint m =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+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) / 2 and recursively process the resulting halflines until they are clipped or their length is a single pixel whose visibility can be trivially determined.  Clipping a line requires at most n step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0E36-7DFE-4FB4-9C8C-019DF988FE8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2743200" y="2286000"/>
            <a:ext cx="2590920" cy="23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6E89-70D1-4F6B-8844-1A36B4853AD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2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yrus-Be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6000"/>
          </a:bodyPr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ind values of t in p(t) =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+ t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) for which p is trivially accep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nsider the vector pp(t).  We want the value of t for which pp(t) is normal to the clipping boundary normal n, ie, where the dot product is 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p(t) - p) =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9532-BB53-414F-B0E1-4AD970E6C5F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620120" cy="258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8CCE-B367-4A10-BA1D-2528EB04B29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37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yrus-Beck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49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[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+ t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) - p]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- p) + t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 =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- p) /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ote  that we must hav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else the line is parallel to the clip bounda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t an intersection point a line is either potentially entering (PE) the window or potentially leaving (P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E   if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)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L   if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)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952E-87D5-46A6-A855-6522CC14554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2EF8-1241-49DE-894A-92493F8EF62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47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yrus-Beck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he visible part of the line segment is between the PE point with the largest t value and the PL point with the smallest t value.  Also requ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  ≤  t  ≤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nd we must ENTER before LEAV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156E-865A-43B1-99C7-76917C916A6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3B06-66DA-4377-A659-F9BBCF6B4D4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57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penGL Se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ormal rendering mode is GL_RENDER.  If the mode is changed to GL_SELECT, no primitives are drawn, but we can determine what is inside the view volu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Make the view volume very small and located near the cursor. Then render your model in SELECT_M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its = glRenderMode (GL_SELECT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// Returns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irst create a buffer to hold hit records of intersected primitiv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lSelectBuffer (size, * buff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F120-A57A-4EEE-A281-980E457CEED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C43D-874D-4DCC-AE13-9D2F132C739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67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penGL Selection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3000"/>
          </a:bodyPr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ext initialize the name stac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lInitNames ( 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he name stack operations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lPushName (name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lPopName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et the view volume BEFORE calling glOrth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lMatrixMode (GL_PROJECTI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lLoadIdentity ( 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luPickMatrix (x, y, width, height, * viewpor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1E25-31F7-450F-BB1F-3306D65E0D2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7640-B437-4801-89AE-C1BF4B9E7D8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77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penGL Selection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nd then finally call glOrtho or gluOrtho2D and display the graphic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x and y are the screen coordinates of the mouse, width and height give the pick window size in pixels, and viewport gives the dimensions and location of the viewpor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ach primitive intersecting the view volume causes a selection hit.  Whenever hits = glRenderMode (GL_RENDER) is called or the name stack is changed, a hit record is written into the select buff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it records contain the number of names on the name stack when the hit occurred, the min and max z-values of intersected primitives, and the contents of the nam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1AB7-013A-4C1D-A76C-799F7E76D8A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4360-4D30-4928-9667-C3CAA8868DC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ine Scan Conversion: Better D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Point Algorith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16 bit processor regi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R = 0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 1 0 0 0 0 0 0 0 0 0 0 0 0 0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Ad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check for overflow into sign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overflow, then NE and clear sign, else 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 To 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978D-A0E0-4C94-A3F5-753FCC4DE78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F327-F355-4A3E-B565-6B65367B232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87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therland-Hodgman Polygon Clipp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lip a polygon to one clip boundary at a time.  In general S-H clips to any convex polygon or to a convex volu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CC79-5C57-44C5-B990-44B568D2CB9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1371600" y="2411280"/>
            <a:ext cx="5943600" cy="397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88FE-E885-4435-BEB0-17AA59A4DFF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98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therland-Hodgman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et the polygon vertices b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 …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 For each clipping boundary an output list is generated according to four cases.  Consider actions taken for an edge from s to 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B91D-B7FE-4441-A41B-69DDA2FB8A2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8381880" cy="310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3503-D6D8-4AC5-93EF-D34DB283789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09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lygon Flood Fi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ne way to fill a polygon with color c is the following recursion.  The boundary must consist of pixels of color c and a starting point inside the polyg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rocedure fill ( (int) x, (int) y, (color) c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f ( point [x, y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c 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oint [x, y] = c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ill (x-1, y, 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ill (x+1, y, 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ill (x, y-1, 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ill (x, y+1, 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6896-6379-447F-8001-CD157D388D0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CBEE-E891-4ECE-B157-5CBD706E402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19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lygon Fi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lygons may be scan converted one scan line at a time. Intersections with lines EF and DE are not at integer coordinates, so one needs a consistent decision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C359-3F4A-44EC-A5C8-3FE35313673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133720" y="2819520"/>
            <a:ext cx="428616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ECDC-53A3-4A5F-9A9C-1C84FCEC811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30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lygon Fill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nearest pixel algorithm produces pixels outside the polygon.  Each span has to be trimmed to avoid polygon overl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6730-1220-4175-A854-3CF490783F9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7120080" cy="350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F9B2-D5BD-4B9A-9301-06A6029D9CD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41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lygon Fill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5000"/>
          </a:bodyPr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nd all scanline-edge inters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ort intersections by increasing 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ll interior spans (use the parity rule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.1 For fractional x, round up or down to select interior pix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.2 For integer intersections, leftmost span pixels are inter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ightmost span pixels are ext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.3 For shared vertices, count th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vertex in parity but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vert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.4 For horizontal edges, bottom edges are drawn but 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dges are no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B0C3-A90A-474E-9E71-4D9063078E3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F8AE-2D4B-4BCE-BC19-CB36D4B240F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51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lygon Fill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horizontal edges: Don’t count the vertices.  For AB, A is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for JA and AB doesn’t contribute, so parity is odd and AB is drawn.  BC has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at B so span termin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A89B-252A-4E43-9979-CB330C97030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2666880" y="2895480"/>
            <a:ext cx="3353040" cy="315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6465-95A8-4A79-83AC-3EBCBDFB259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62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dge Coher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ny edges intersected by line i are intersected by line i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intersection points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+ 1/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Need an edge table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ach polyg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B8F6-6741-4122-8E0E-1888C49B2CD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2752560" cy="24699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3809880" y="2895480"/>
            <a:ext cx="510552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F9BF-A970-45D7-A3FA-E626F516132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7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e Edge T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any scanline, as the AET is traversed, parity is reversed each time a new edge is crossed.  Notice that at line 9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= 9 for FA and EF so that they will be removed from the next scanline.  x is updated at each scanl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A292-8BAD-4658-96AB-BDE0AE7B3E5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2752560" cy="24699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3352680" y="3733920"/>
            <a:ext cx="5562720" cy="171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9F4A-8B16-4F5E-86F7-3A3C1B16CB9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8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e Edge Table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t y to the lowest bucket with an edge rec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itialize the AET to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peat until the AET and ET are emp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.1 Move from ET bucket y to the AET edges whos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y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then sort on 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.2 Fill pixels using the A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.3 Remove from the AET records for which y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crement 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.4 For each edge in the AET update x for the new 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0D0-E93C-4319-84F7-1D6BF7A225D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21DF-FE2B-4CEB-8FA7-F0631555716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ain Co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ing of a digital cur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0169-A71A-4FB4-A9B6-FB192334F7F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086600" cy="32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BFD1-ABC8-4960-8047-FE629C04D0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2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resenham Midpoint Algorith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E87A-9496-4635-B0F1-58E24A2B071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6320" y="1828800"/>
            <a:ext cx="8915400" cy="401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108A-EBBD-4CF0-973F-BDF7FF9D1C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resenham Midpoint Algorithm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assume that 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≤ 1 and that pixel centers are on the gr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at p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lready deci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 (NE - Q) - (Q - E).  If this is negative then NE is closer to Q.  So determine whether Q is above or below the midpoint, 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the line by F (x, y) = ax + by + c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dy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dx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x dy/dx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F (x, y) = x dy – y dx + B d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ther words, a = dy,  b = -dx,  and c = B d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CBE1-61ED-4164-A737-E47813261D0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B211-D45D-4767-96C7-CE9997E6160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4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resenham Midpoint Algorithm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F (x, y), F (x, y) i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for points ab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for points be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uter F (m) = F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1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d and check the sig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a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1) + b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) +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Now, what happens to d and M for the next grid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E (when d ≤ 0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F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+ 2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)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2) + b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) +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1) + b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) +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o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+ a =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+ 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8C54-8168-4715-8D4B-6C07DB02C1A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DE6A-B6A1-4623-86C8-32E368B797A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5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resenham Midpoint Algorithm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NE (when d &gt; 0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F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+ 2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/2)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2) + b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/2) +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1) + b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) +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o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+ a + b =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+ dy - d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 begin, start at pixel p and its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is j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a + b/2 = dy - dx/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ince the first point is on the line, so that F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=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E1F0-2EA3-4902-B64A-F194C130EC1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D9C4-4608-48A8-81C1-3299C1F0491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6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can Conver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resenham Circle Algorith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ircle equation is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nsider the arc from p to q wh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tarts at (x, y) = (0, r).  Increa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 by 1 means either y i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r y decreases by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u = (x + 1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2x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 =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- (y - 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= 2y -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-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the err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376E-8B83-471B-A62C-634BC7D64FA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3147840" cy="307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CF2D-2EFB-4BE4-A70C-80E15989D1D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nis Gracanin</dc:creator>
  <dc:description/>
  <cp:keywords/>
  <dc:language>en-US</dc:language>
  <cp:lastModifiedBy>Roger Ehrich</cp:lastModifiedBy>
  <dcterms:modified xsi:type="dcterms:W3CDTF">2010-04-08T01:05:24Z</dcterms:modified>
  <cp:revision>158</cp:revision>
  <dc:subject/>
  <dc:title>Introduction</dc:title>
</cp:coreProperties>
</file>