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6D86-12E8-4C6D-B72F-F9B0FED7FE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ginia Tech Masters of Information Technology graduate progra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044, Object-oriented programming with Jav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e introdu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386F-A447-4520-9515-04F54941B3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557F-70C6-45B3-ADFE-4280090B2A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5EC6-9B25-4C39-B208-A6389BD5BD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58DF-7F4E-40E5-A4A3-992370D9E5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0966-6AD7-4BBC-A12B-5CDBBB4A1F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2948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23C0-6D9B-466D-9066-D53E38EBB5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0F13-4703-48C0-BA6D-6213D50035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CDB2-F8FE-4CE7-AB84-D9B2D1E306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610F-9DAC-4230-AB5C-71D294880A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52E9-6079-46C7-997B-16213E3CC4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744A-6207-4F6F-97D1-70B325A542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168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8336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4C7C-7031-4BA3-9DCB-08457B8FC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2948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A3F2-DE55-4D97-AA32-57DFE56659E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545160"/>
            <a:ext cx="9144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© 2010 Roger Ehri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8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291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S 374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 Programming &amp; Graph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3365640"/>
            <a:ext cx="9144000" cy="3001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 - Intro to Graphics: Transform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8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aling About an Arbitrary Cent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906768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e to origin, scale, translate bac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’ = x -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’ = y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’’ = x’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x -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’’ = y’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y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’’’ = x’’ +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x -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x -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1)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’’’ = y’’ +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y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 -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1)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0199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212760" y="544356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286000" y="4876920"/>
            <a:ext cx="4033800" cy="15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29EA-57E9-4E23-B861-6B3C0483D4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9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indowing Transform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906768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baseline="-25000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0199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12760" y="544356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57200" y="1771560"/>
            <a:ext cx="7696080" cy="450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6899-FD8E-4715-AD21-607F6583911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08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stance Transform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0199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12760" y="544356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019920" cy="487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D026-0AA8-457E-9DE5-7E0ECB9C115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19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ransform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60199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212760" y="544356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48168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Translate (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e object in world coordinates by (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168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Scale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le object about (0, 0, 0) by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168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Rotat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tate object in RH coordinate system CCW about (0, 0, 0) b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grees around the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xis, viewed in the negative dire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168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MultMatrix (matr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a 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 transformation matrix by giving the 16 coefficients in column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168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LoadMatrix (matr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 the current 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 transformation matrix by a new matri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E784-FE76-49BF-A176-775E87D9837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30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catenating Transform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60199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212760" y="544356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scale a master object with matrix S and then translate it with T to the correct position, ie, I = 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GL works as follows: Let T be a new transformation matrix and let C be the current transformation.  The new transformation C’ will be C’ = 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us if we make calls in order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get C’ = C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o that the last transformation specified is the first one executed!  Thus to display the master object we would call glTransl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lScale and then draw the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4170-B8C2-455D-9147-02F87F7A598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41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iew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0199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12760" y="544356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229600" cy="47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2E19-1C86-4882-A03F-AF91FC88142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52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iew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0199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12760" y="544356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1523880"/>
            <a:ext cx="4267080" cy="81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glViewport (0, 150, 100, 10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glMatrixMode (GL_PROJECTIO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glLoadIdentity ( 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gluOrtho2D (15.0, 65.0, 10.0, 60.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glMatrixMode (GL_MODELVIEW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glLoadIdentity ( 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glTranslatef (10.0, -35.0/3.0, 0.0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glScalef (5.0, 10.0/3.0, 1.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//  Draw Ma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glLoadIdentity ( 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glTranslatef (50.0, 30.0, 0.0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glScalef (10.0, 10.0, 1.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//  Draw Ma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glFlush ( 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D5A9-5636-4A92-8041-095BD9A1B42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6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hange of Coordinate Syst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6000"/>
          </a:bodyPr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{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and {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be basis se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’s and u’s can be represented in terms of each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  M [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here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0199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212760" y="544356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F89D-8FD3-4239-B1B9-A717FF243FF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7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hange of Coordinate Systems 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w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 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here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 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 [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fore it follows that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  or  a 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  and  b = (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hanges a vector in the v-basis into a vector in the u-ba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0199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212760" y="544356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AD58-54FD-4DE3-A4E3-A3DB8C1B52DB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inear Independ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447560"/>
            <a:ext cx="9067680" cy="5105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5000"/>
          </a:bodyPr>
          <a:p>
            <a:pPr marL="471960" indent="-4341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n vectors.  If there are no scal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t all zero such th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…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0, the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said to b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inearly Independ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-4341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a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a linear vector space V is a set of linearly independent vector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ch that every 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 can be writte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…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some scal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-4341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vector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the representation of v with respect to the basi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-4341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linearly independent iff the determin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-4341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an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a matrix is the maximum number of linearly independent rows (or column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-4341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ank of a matrix is computed by Gaussian elimination and counting the number of nonzero row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FB6B-F61C-42C6-B3E9-9984BE3E3CD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6E9A-5FA1-4949-8B86-0458200F959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0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ordinate Fr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320" y="1447560"/>
            <a:ext cx="9067680" cy="5105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48168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D vector space any vector v can be written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scala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line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 basis vector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has no location in space, so we have to work in 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fine space in which a point p can be written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3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ordinate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represent both points and vectors in a coordinate frame we need to work in an augmented coordinat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omogeneous Coordin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012C-078E-48B5-96A0-1E1FA2D5EAC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7850-3871-47E2-8E20-AF9442BE661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sic Transform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6000"/>
          </a:bodyPr>
          <a:p>
            <a:pPr marL="476640" indent="-438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ng a point 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’ = x +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’ = y +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640" indent="-438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ing a point location about (0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’ = x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’ = y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640" indent="-438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tating a point CCW about (0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’ = x co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y s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’ = y s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x co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vectors scaled or rotated end up in the same fram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as a translated vector ends up in a new frame.  Th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is fundamentally different from scaling and r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requires an affine trans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C8AB-44A5-4E12-9D0F-53C5B73DFC9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00A1-CE6C-47C6-A5C0-60329803C5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he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906768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rizontal sh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’ = x + y co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’ =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sh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’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’ = y + x t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09880" y="1828800"/>
            <a:ext cx="4572000" cy="3981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60199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601992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ffine Transfor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inear transformation plus a trans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212760" y="544356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5495-584F-48E4-BC7F-2CA40BDDE03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3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ransformation Matri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906768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0199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12760" y="544356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248520" cy="471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C325-EDE6-4C97-A97F-9465AF2EA6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48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trix Transform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9067680" cy="4038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matrix transformation in computer graphics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’ = 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X’ and X are column matri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(AB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re t denotes transpose, sometimes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se of the above equation X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us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0199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12760" y="544356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2552760" cy="1239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209680" y="5181480"/>
            <a:ext cx="4343400" cy="12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F392-1CAA-45FF-9BEA-CEB473DF55C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61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verse Transformation Matri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906768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0199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12760" y="544356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324480" cy="478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FDDC-D9A0-482C-9C38-73F30C8AE3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7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Transform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verse of Matrix Composi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906768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y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…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…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…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 =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(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…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…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0199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212760" y="544356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B94E-CBA7-4AE4-B417-D6AF5A09AE4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nis Gracanin</dc:creator>
  <dc:description/>
  <cp:keywords/>
  <dc:language>en-US</dc:language>
  <cp:lastModifiedBy>Roger Ehrich</cp:lastModifiedBy>
  <dcterms:modified xsi:type="dcterms:W3CDTF">2010-03-22T17:39:23Z</dcterms:modified>
  <cp:revision>89</cp:revision>
  <dc:subject/>
  <dc:title>Introduction</dc:title>
</cp:coreProperties>
</file>