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585-9F87-4F61-83EB-2E947A511E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0FD7-DF9D-4B40-817C-BB099AB1C4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ACD9-2BF6-4753-A1C9-840BD523BB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AC2A-A2D2-477E-8242-E3DE1168D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EF8A-A4D2-4474-8032-0DF2316C8C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71FA-CDCC-4EE2-8F05-FFC00A938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FCE0-C594-4AAF-B485-28117F48D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72B1-08FA-42AD-9606-8FA5D3BC4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A1F7-D6FE-42E3-82D2-E6861B2A7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AA0B-D033-42CE-A8EC-003B6D9961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E02C-64FE-46D4-9FB5-F3638C696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7F0D-97E3-49E7-A37B-2B0B03E3CF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5BC3-2B42-490F-A76C-2ABD21450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E182-095C-4A25-AA3E-62F20CB95AE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7 - Intro to Graphics: Curv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iecewise Polynomi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general cubic blending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(t) =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b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t +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(t) and R’(t) be 0 at t=0 and t=1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(0) = d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(1) = a + b + c+ d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’(0) = c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’(1) = 3a + 2b + c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only if a=b=c=d=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6B33-697D-492F-B9BF-D6F3C19E55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other Set of Piecewise Polynomi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g(t) be defined over [0, 3]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(t) = ½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[0, 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(t) = ¾ - (t – 3/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[1, 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(t) = ½ (3 – t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[2, 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: a(1) = b(1) = ½  and  b(2) = c(2) = 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, g’(t) is continuous everywh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’(1) = b’(1) = 1  and  b’(2) = c’(2) =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cond derivative is not continuous, howe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s of t where the curves join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no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00672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42C8-8760-47F0-A2AC-9B4FECF620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line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Mth degre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s a piecewise polynomial of degree M that is (M - 1) – smooth at each k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(t) on previous slide is quadratic and has a continuous first derivative everyw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where the piecewise polynomials meet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-values at the joints are knots and the list of knots of a blending function is called its knot v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B3F6-A7E8-47D3-A051-EA22433A1D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structing Blending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7 translated copies of g(t): 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g(t - 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he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to sum to 1 for all t.  Ok for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7, that i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g(t - k) = 1,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[2, 7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n P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g(t - k)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etween t = 2 and 7, three blending functions are 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t t = 2, 3, …, 7 only 2 blending functions are active, each with value 0.5, so that P(t) passes through the midpoint between each pair of control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0FD9-E0E8-4190-B4C7-517A0438AF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eralizing Blending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want to use the parametric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L+1 control points and L+1 blending functions.  continue to require that P(t) be an affine sum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not v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list of knots T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, )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Eac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is 0 for t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fter several spans, and eac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must be a spline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1FE6-FA44-47B0-B646-52B9F6E86A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1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zier: One span 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1, Bernstein polynomials have degree L, L+1 knots with t=0 and L+1 knots with t=1.  The Bernstein polynomials are splines since their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erivatives are continu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(t) translates: Knot values 0, 1, 2, …, L+2, each translate is a spline of 3 polynomials of degree 2, covering a span of 3.  In each span, P(t) is some sum of polynom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Question: Given a knot vector, can we find a family of blending functions to generate every possible curve defined on that knot vector?  That family would be called a spline ba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6547-1B30-43F5-A136-504ADB45ED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2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-Spline Blending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4000"/>
          </a:bodyPr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-spline of order m is a polynomial of degree m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-spline of order m is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so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k ≤ 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/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+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+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)/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+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+1,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1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k+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d 0 other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quispace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th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re translates of one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953C-A4F6-408E-8AFB-2FBC19493E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Cubic B-Spline Fun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u(t) = (1 - 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6      and     v(t) = (3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6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4)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u(1 - 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(2 - t)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(t - 2)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(t - 3)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t ≤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bic splines are 2-smoo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qui-spaced kn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AA71-4D70-4DB4-86BF-8F3BFE3B19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4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zier Cur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zier curves are actually B-spline curv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-spline blending functions defined on the standard knot vector are actually Bernstein polynomials when m = L +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ther words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,L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k = 0,1,…,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 is the deg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60B-F694-4448-9785-69C9CE20C1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5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ndard Cubic B-Sp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knot vector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,0,0,1,2,3,…,n-1,n,n,n,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: example with 8 cub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-spline blending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knot v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,0,0,1,2,3,4,5,5,5,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e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3861000" cy="48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7445-6F22-4AE9-8113-39A2B4C5C6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rve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ed shapes may be aesthetically pleasing or a technical necessity.  We describe 2D curves by a pair of parametric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denotes [x(t), y(t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locity along the curve is given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(t) = d P(t) / dt = [d x(t)/dt, d y(t)/d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A2A9-9600-4572-9437-8DD5CFD7C4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rve Design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ve tangent vector at 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iven 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, which denotes [x(t), y(t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locity along the curve is given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(t) = d P(t) / dt = [d x(t)/dt, d y(t)/d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ve tangent line at 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iven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(u) = 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v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B6DA-D9FD-4529-B0B5-DEA333120D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rve Design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ve normal vector at 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iven 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(-dy/dt, dx/dt) | t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point move along its trajectory?   P(t)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-smooth on [a,b] if it is continuous on [a,b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-smooth on [a,b] if its derivative is continuous on [a,b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-smooth on [a,b] if it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rivative is continuous on [a,b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11BA-881E-4E1A-94BF-97678E876F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rol Poi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es are defined by a number of points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rol Po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erpo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urves actually go through the control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pproxi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urves may not pass through the control points, although they may be close to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A13B-4CD5-4319-B70B-27BC31C2B0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zier Cur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2000"/>
          </a:bodyPr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t) = (1 - t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nd     B(t) = (1 - t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= (1 - t)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B  =  (1 - 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2t(1 - t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a parabola.  Also P(0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(1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4 control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75438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8A03-210D-4144-80AC-80C6C1C4E5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zier Curves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9568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160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A betwe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 betwe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 place D between A and B, 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B and C.  Finally place P between D and 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5410440" cy="24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6853320" y="4092480"/>
          <a:ext cx="85680" cy="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3320" y="4092480"/>
                    <a:ext cx="85680" cy="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54100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= (1 - 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3t(1 - 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3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 - t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D0B8-2D97-4AB2-A1DC-7AD2FA120D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zier Curves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a linear combination of polynomials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rnstein polynomi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= (1 - t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= 3t(1 - t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= 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 -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ed by computing 1 = ((1 – t) + t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 Th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= 1, so that P(t) an affine linear combination of control points.  The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lending fun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generalizable to L control points and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gree Bernstein polynomi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3DCD-967D-4F72-8BDA-934BB85ED9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Curve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erties of Blending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ing function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be easy to compute and numerically s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to 1 at every t in [a, b] (ie affine sums of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small support to offer local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e certain control points, chosen by the desig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fficiently smoo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9A06-C12C-46E0-87C5-6F64FED086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5-19T17:37:02Z</dcterms:modified>
  <cp:revision>139</cp:revision>
  <dc:subject/>
  <dc:title>Introduction</dc:title>
</cp:coreProperties>
</file>