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6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4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47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61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© 2010 Denis Gracan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8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1"/>
          <p:cNvSpPr/>
          <p:nvPr/>
        </p:nvSpPr>
        <p:spPr>
          <a:xfrm>
            <a:off x="0" y="6540480"/>
            <a:ext cx="8534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S 3744: Implementing Lay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8534520" y="6477120"/>
            <a:ext cx="609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8E35-34B0-47AA-B242-3D1B3C2E4304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4 – Implementing Layou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RelativeLayou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ize and location of a component is specified relative to the dimension of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s are between 0 and 1; the upper left corner of the container is (0,0), its width is 1 and its height is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s less than 0 or greater than 1 are not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nee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that includes relative position and size of the com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needs attributes and getter/setter methods for relative position and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vided code is for illustration purposes, some of the functionality is not impleme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AbsoluteLayou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ize and location of a component is specified absolute to in terms of pix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s less than 0 or greater than container dimensions are not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nee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that includes absolute position and size of the com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needs attributes and getter/setter methods for absolute position and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vided code is for illustration purposes, some of the functionality is not impleme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GraphLayou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tension of the absolute layout that accepts only graph related objects (instance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its subclass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ting of the components is done in the following order, based on the categories of the graph compon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ground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each category, the components should be rendered in order they were added to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9:23:27Z</dcterms:created>
  <dc:creator>Denis Gracanin</dc:creator>
  <dc:description/>
  <cp:keywords/>
  <dc:language>en-US</dc:language>
  <cp:lastModifiedBy>Denis Gracanin</cp:lastModifiedBy>
  <cp:lastPrinted>2010-03-17T02:04:24Z</cp:lastPrinted>
  <dcterms:modified xsi:type="dcterms:W3CDTF">2010-04-29T12:11:03Z</dcterms:modified>
  <cp:revision>240</cp:revision>
  <dc:subject>CS 3744 Fall 2009</dc:subject>
  <dc:title>GUI Concepts</dc:title>
</cp:coreProperties>
</file>