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ADFE-8F8C-490B-8535-2FDFF08605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nia Tech Masters of Information Technology graduate progra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044, Object-oriented programming with Jav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introdu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A02D-16AB-454A-85A2-6A9BD87179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998D-BBE9-4846-A0E5-836BC335AA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6744-8003-4FAF-9582-BEF198F92E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34D8-8D92-4038-8BAF-471B98284A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888B-8787-4C4A-9D4F-96D39D4347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FD86-F74D-489A-ADE5-08D66332BA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6AC3-C709-4363-BF9B-AA26EE24A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9FCD-09D8-4377-976B-88CC99B938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2DBA-6DB3-443A-8245-1CE3FCE39D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CC1E-0695-4D2D-9CD7-4E3214F338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2A0B-F545-4137-A089-6F4CECA51F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DB64-50B3-41C0-AB9C-62FA26249B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786B-C7F5-4AB5-9444-04714878060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4516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© 2010 Roger Ehri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291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3365640"/>
            <a:ext cx="9144000" cy="3001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 - Intro to Graphics: Structured Graph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tructured Graphic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ance Transform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display a number of master objects at different sizes and locations.  Assume that the center of scaling of the master is at the orig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instance transformation i would be a scaling followed by a translation, ie, C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xcept we have to defin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rst and the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chieve this. Here C is the current trans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are going to move these instances around, we need to keep track of the location and scale of each in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suppose we want to group two instances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single object that can be scaled by S’ and translated by T’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w object needs a center O, a scale factor S’ (initially 1), and a translation T’ (initially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C8CD-A7FB-40CB-B934-8D35804A2CB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6129-6951-4809-BADF-286B2377DF2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tructured Graphic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ance Transformations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isplay instan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e need C = T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in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ly this would require defining T’, t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so forth in that order for each instance transformation.  However, we can use the modelview stack to do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modelview mode and define C = T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 the stack to get C | C = T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get C | C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C | T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trace through the master objec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 pop the stack to get back to C = T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, beginning with *, for other instances of the mas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776D-E1F2-485C-A20A-D8064553ED6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810C-3F14-4FA7-AB19-3EE19784E0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tructured Graphic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obo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DA3-0832-4EE2-9782-1DC4F91DF3D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09588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D850-E9AF-49CB-948C-E92D63C5A1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tructured Graphic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ck-Based Travers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termines the position of the entire rob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termines the head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the left wrist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that sinc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ts last, it must be the first transformation invoked.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ght actually be the composition of a number of component trans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ese transformations are all modelview transfor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A10E-1F3B-4BB3-9186-8336D627317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1635-AB20-4534-BA12-5232342171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tructured Graphic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del Traversal in OpenG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MatrixMode (GL_MODELVIEW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LoadIdentity 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w Tor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PushMatrix 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w he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PopMatrix 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PushMatrix 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w left upper a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PushMatrix 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w left lower a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PushMatrix 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3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1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|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w left wr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4E59-1A4F-435C-993A-9786C9858A9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9331-C761-4E54-BBD6-E822ABB767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4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Structured Graphic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structu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1BFB-8697-4CD1-8B86-CEFB4D71A2A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10480" cy="417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C917-83D8-4D7F-AC06-7C87B364911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is Gracanin</dc:creator>
  <dc:description/>
  <cp:keywords/>
  <dc:language>en-US</dc:language>
  <cp:lastModifiedBy>Roger Ehrich</cp:lastModifiedBy>
  <dcterms:modified xsi:type="dcterms:W3CDTF">2010-04-05T14:34:06Z</dcterms:modified>
  <cp:revision>102</cp:revision>
  <dc:subject/>
  <dc:title>Introduction</dc:title>
</cp:coreProperties>
</file>