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17.gif" ContentType="image/gif"/>
  <Override PartName="/ppt/media/image3.png" ContentType="image/png"/>
  <Override PartName="/ppt/media/image20.png" ContentType="image/png"/>
  <Override PartName="/ppt/media/image18.png" ContentType="image/png"/>
  <Override PartName="/ppt/media/image4.png" ContentType="image/png"/>
  <Override PartName="/ppt/media/image1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80795-3CF9-4F25-8172-8B94E4BCCEF7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44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ginia Tech Masters of Information Technology graduate progra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044, Object-oriented programming with Jav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se introduc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9179-D92A-40C0-A41F-8E0C3B9511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D263-05AE-4C10-9827-07B5800DF2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D7A76-6E28-4925-A43C-ADC06DECFE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977E-9D43-485E-AABA-98C9F72B80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3B18D-8A4C-4142-8A2D-44585F4595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294840"/>
            <a:ext cx="914400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1F80-25F8-4CCE-A736-34801DD5FF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7F51C-F609-4973-8540-2D013AB261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5F40-6E65-465D-B4B1-FE45CBC45D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7B789-FF00-41E4-B2A5-460EF33C1F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FC5D-2EBF-488A-8A93-5A26FBE6AC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8BF9-3360-4119-BBBE-F488132905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168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8336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FB0C-EEBC-4319-AA72-070B0EA978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294840"/>
            <a:ext cx="914400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9E2C-D730-4517-9547-F6DA180154E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545160"/>
            <a:ext cx="9144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© 2010 Roger Ehri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86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291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S374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 Programming &amp; Graphic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3365640"/>
            <a:ext cx="9144000" cy="3001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8 - Intro to Graphics: Co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78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lorimet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an objective way of specifying color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erceptual Te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lorimetric Te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inant wave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ur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itation p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ghtness (reflecting objects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mi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ghtness (self luminous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mi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5FCC-312F-49B3-8570-9C0FC26FE37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4835-C808-47A8-8519-47B1D30469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88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ristimulus Theo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48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color display devices are modeled after the human eye which has three different types of color recep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color reproduction devices that have three different color stimulants, called R=red, G=green, and B=blue.  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rticular color is obtained by color addition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 =  aR + bG + c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for color matching purposes, normalize brightness by requiring that a + b + c = 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495A-7750-49E2-A3BF-670CA224DEE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14BD4-CBD4-451E-8AA2-7D1793D3C4A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98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lor Matc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luminate half a disk with a test color and then determine a mixture of 3 primaries to provide a match on the other side of the dis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rs can be realized only within the tristimulus triangle.  Colors with negative coefficients are unrealiz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 is not achievable with the primaries provided, then it must be desaturated by adding a primary on the left side of the equation.  The resulting chromaticity diagrams may be quite different if different primaries are u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8560-937A-437D-8CF0-335B9254FBD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7D92-CBB8-4BA3-AA53-B14C8577084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08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lor Matching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ght (1928): R=650, G=530, B=46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uild (1931): R=700, G=547, B=43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108D-8FB0-4FE0-B751-4EABF7ECD8D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4233600" cy="3746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190760" cy="367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BF74-765C-45AF-A13A-112F0F4AD63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20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0080" cy="3160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lor Matching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 color matching fun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 = 700, Green = 546.1, Blue = 435.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D426-91D2-489C-9984-926E832FE3A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209680" y="1981080"/>
            <a:ext cx="4648320" cy="393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17F0-67C6-4EA4-B1ED-310F6460BBA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31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E (1931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observer matching fun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l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= X / (X + Y + Z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= Y / (X + Y + Z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 = Z / (X + Y + Z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that  x + y + z =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985F-7D81-4102-BF43-9031A02CB46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4208760" cy="422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89DC2-0861-4155-98A4-0EEA03A1361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42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E Chromaticity Diagr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E490-8179-4B65-97C7-8DD05BD93AA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362320" y="1676520"/>
            <a:ext cx="4108320" cy="455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3A08-AE52-4918-9241-3ED99E30525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53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E Color Sensitiv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variation 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omaticity ma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different parts 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E di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Judd and Wyszeck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8D8A-B616-40E1-BE9E-E2BEDAFA924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962520" y="1523880"/>
            <a:ext cx="4470120" cy="492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2AEB-CA82-499E-8343-C2DCB5750A4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64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acAdam’s CIE Transformation (1937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6A20-CD9A-4A14-B950-E2DA0820945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066680" y="1752480"/>
            <a:ext cx="6934320" cy="450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94E04-D81A-4873-B255-26295EC487E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75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perties of the CIE Diagr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urated colors are on the bound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illuminant D65 (daylight) is 650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minance is factored out of the CIE dia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planes where x+y+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 represent other luminan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mentary colors are those that can be mixed to produce white ligh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termine dominant wavelength of a color c, draw a line from the white point through c and determine where it intersects the bound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08E0-3206-4AFD-8EC0-76A754649E8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05909-AEB0-4AD5-9D99-7F96143BEB9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Ey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ods, sensitive, co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nsiti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es, mostly in fov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vea is 1.5 mm in diameter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0,000 cones / 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337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r vision adaptive o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ity range of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all adaptivity of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1DAA-A32F-4753-8F42-4BC1AB7F315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05440" y="1523880"/>
            <a:ext cx="4138560" cy="466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61D6-516C-4480-A60D-1E5C6FB4BAD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85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lor Gamu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oduction devices cannot display all colors, but many cameras allow selection of standard gamuts.  No gamuts are in effect in RAW m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RG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obe RG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F6A9-BE88-4BAD-A068-017EB0E5F03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2968560" cy="32763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724280" y="2590920"/>
            <a:ext cx="2936880" cy="324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975D-4166-4D36-B8BD-746050965D3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97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XYZ from RGB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E coordinates can be determined from RGB space by a linear trans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= R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G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B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= R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G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B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 = R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G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B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the 9 transformation components are functions of the XYZ tristimulus values, the XYZ white point coordinates, and the luminance of the white poi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BC54-500B-4FF8-AB9B-40E887B8113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69A32-A005-4D02-A3A6-A4A81CDCE5A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307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inters and CMY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lays use additive colors while printers use subtractive col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ve (RG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Subtractive (CMY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03D4-E232-46D2-8D44-2F65713E801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1066680" y="25146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4952880" y="25146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801EA-71D5-4DED-B182-A91CC512A1B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319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inters and CMYK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ers usually use black ink in addition to CMY becaus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xt is usually printed in black and it is important to maintain color purity on edges and fine deta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mbination of 100% CMY inks soaks the paper and causes spread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mbination of 100% CMY often results in a muddy brow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 ink is less expensive than using multiple ink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 = min (C, M, 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 = C - 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C = 1 - 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 = M - 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M = 1 - 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 = Y - 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Y = 1 -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FA1D-089E-4710-9DC1-951B0F6D051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EF04-175E-4380-A509-C794577EAC8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329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GB Color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nient for display devi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9E63-B2A1-4B93-8261-BE3924D28BC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2171880" y="2057400"/>
            <a:ext cx="4228920" cy="422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AD70-BB77-4E49-B4C7-2855E42B74F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340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YIQ (NTSC) Color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nient for commercial broadcasting – note that the Y component is luminance and is heavily weighted toward g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= .299 R + .587 G + .114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 = .596 R  - .274 G  - .321 B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 = .211 R  - .523 G + .311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6A2E-29FE-4EDF-BFAD-B5AEDE0D1E5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4AAB5-2F82-4C56-8734-059EC219EF7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350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YUV (PAL and Secam) Color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nient for international broadcasting – note that the Y component is luminance and is heavily weighted toward green as in the YIQ mod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=   .299 R + .587 G + .114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  = -.147 R  - .289 G + .436 B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=   .615 R  - .515 G  - .100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F4A5-1FC8-41B5-A884-49424B84434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4505B-FB21-48F4-806D-AB682652E5D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360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SV=HSB Color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s to a projection down the diagonal of the RGB color cube (including Photoshop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1F81-8A80-4E9C-BECB-1A28DB2E663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1990800" y="2209680"/>
            <a:ext cx="5019480" cy="401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E06BA-38E3-49E1-81E5-E736805BC58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371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LS Color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intshop Pro.  HSI (Tektronix) is similar, except that the formulas are slightly different.  S=1 if any component is 0 and S=0 if R=G=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94C6-B20B-453A-88C9-9EDAF3BEA02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2209680" y="2362320"/>
            <a:ext cx="3830760" cy="40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5BABA-15BF-4951-B9B6-5D8339765AD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382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analog) and Y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digital) Color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Y component is identical to YUV and YIQ.  The digital components a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ed by scaling and offset from the analog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F909-07B2-4728-A4F1-3EB15EE4DA2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3200400"/>
            <a:ext cx="59436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 =   .299 R + .587 G + .114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 -.168 R  - .331 G + .500 B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  .500 R  -  .419 G  - .081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DE4F-76B1-4AC7-9F7A-2D0C12B71C6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04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ceptor Distribu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E3C6-83B6-4F51-901B-79ACDCDA699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7905960" cy="468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0BF9-104C-46E7-AA66-03ACD95FFF0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393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*a*b* (CIELAB) Color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4000"/>
          </a:bodyPr>
          <a:p>
            <a:pPr marL="46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 is lightness with values 0 to 100 and a and b are color dimensions.  This is based on the 1931 CIE XYZ space but more representative of the logarithmic way humans see co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* = 116 f (Y/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– 1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* = 500 [ f (X/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– f (Y/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* = 200 [ f (Y/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– f (Z/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(t) = 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/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for  t &gt; .00885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(t) = 7.787 t + 16/116 otherw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the XYZ CIE coordinates of the white poi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9DF2-B2F6-480D-BF54-06550A77DF8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FB6F6-77D4-47F1-B0AA-3019F0897E7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403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gital Image Sens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that except for Foveon sensors and 3-chip cameras, digital camera sensors are monochromatic, and color must be interpolated from sparse measur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2862-4A58-4D96-8601-85EC4728382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1447920" y="2743200"/>
            <a:ext cx="457200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1965B-E667-4748-AE61-50817D5E091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414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AW Digital Camera Form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W mode imaging has great advantages over JPEG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cameras have 12-bit or 14-bit photosites, whereas JPEG is limited to 8-bits per co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r temperature, color space, contrast, and exposure can be determined after the files have been downloaded from the came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of the best demosaicing algorithms are too computationally intensive to run in real time on the camera itself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710D-1C1C-45E3-90DA-5A0A566B245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E7F8-851B-4790-84AE-7648C5E518C3}" type="slidenum">
              <a:t>32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isible Spectru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2ECA-67FD-4ACE-B31A-F3C1DC518000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8229600" cy="149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DF19C-3199-4880-B38E-BF3CC782716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26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ectral Sensitiv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371E-F52E-4FCD-95E4-4FDE49C55A2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3886200" cy="4548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495680" y="1828800"/>
            <a:ext cx="4314960" cy="449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2FE5F-4361-4182-B68C-72E257C9874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38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ight Sens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r depends 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 surface phys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tral composition of light 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ometry of the world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man visual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hromatic l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ity, luminance (physical measur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ghtness (psychological meas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8E13-127B-4423-9F72-D11534F1304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3F20-318E-4852-96F2-7208E0A1DE3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48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nsity Sca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6000"/>
          </a:bodyPr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display 256 intensities.  How should they be selected?  Eye is sensitive to ratios, not to absolute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the minimum intensity, 1.0 the maximum.  Each intensity is r times as bright as its predecessor, i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, 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…, 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55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for n+1 intensities, r = (1/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/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CRT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.005 to .025;  1/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dynamic r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A442-DC33-4A2E-BF29-F6F20393A74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B419-8F6C-4328-A843-5815EE41561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nsity Scale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48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get display devices to display a correct intensity scale, given the device nonlinearities?  Gamma corr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intensity levels are enough to establish a visually continuous intensity scale?  r &lt; 1.01.  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.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1/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 dynamic ra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672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T and Photographic pri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1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n ~ 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672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e transpar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1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n ~ 7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672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&amp;W news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n ~ 2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3DB6-4F13-41DF-BEB7-BB2CA764888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2DF2-F0FD-4403-8D91-8CEA6C38892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68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o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sychology of Col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erminolog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distinguishing feature of co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uration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white is added to the co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ghtnes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intensity is per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ist terminology (preserves hue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n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white pigment is ad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d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black pigment is ad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n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ver all color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820A-6E79-4C0D-9568-30E8B0613A7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84BC-B784-42A8-8EAF-8C0CFC6D440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nis Gracanin</dc:creator>
  <dc:description/>
  <cp:keywords/>
  <dc:language>en-US</dc:language>
  <cp:lastModifiedBy>Roger Ehrich</cp:lastModifiedBy>
  <dcterms:modified xsi:type="dcterms:W3CDTF">2010-05-19T17:32:20Z</dcterms:modified>
  <cp:revision>145</cp:revision>
  <dc:subject/>
  <dc:title>Introduction</dc:title>
</cp:coreProperties>
</file>