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168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336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95200"/>
            <a:ext cx="91440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9168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8336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0" y="295200"/>
            <a:ext cx="91440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09168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8336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295200"/>
            <a:ext cx="91440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2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" name="Rectangle 3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4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6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44" name="Rectangle 3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Rectangle 4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47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61"/>
          <p:cNvSpPr/>
          <p:nvPr/>
        </p:nvSpPr>
        <p:spPr>
          <a:xfrm>
            <a:off x="0" y="6540480"/>
            <a:ext cx="9144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© 2010 Denis Gracan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88" name="Rectangle 3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Rectangle 4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Line 5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161"/>
          <p:cNvSpPr/>
          <p:nvPr/>
        </p:nvSpPr>
        <p:spPr>
          <a:xfrm>
            <a:off x="0" y="6540480"/>
            <a:ext cx="8534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S 3744: Final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8534520" y="6477120"/>
            <a:ext cx="609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0647-E3FB-4326-9183-06793E89452B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S 374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 Programming &amp; Graph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22 – Final Proj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ject Grading 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ity: 6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 panel: 2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 creation/display: 1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 edit/update/delete: 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 edit/update/delete: 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xt edit/update/delete: 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age edit/update/delete: 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o: 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 scrolling: 3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ading from/saving to a file: 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NUS - Dynamically creating and using custom node types: 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ject Grading I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bility: 10%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ing/closing the application: 1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 resizing/hiding/maximizing/closing: 2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ent processing: 2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ptions: 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se of Use: 20%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actions: 10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sual feedback: 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stency: 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yle/Documentation: 5%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avadoc comments: 3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 graph file: 1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labels, messages, etc. 1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the final project in phases, start with simpler functional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rading criteria should be used to determine priorities in your implem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GUI components and layouts should be added to the GUI framework to provide the required functional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quired functionality inclu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ading an image from a file and displaying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isplaying a graph and managing graph layo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lecting graph compon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inking node and text in the grap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anaging graph consistency: an edge requires incident nodes (could be the same), removal of a node removes incident edges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ding, deleting, moving, scaling and editing graph compon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anning/scrolling the grap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e level un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ading from/storing to a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ample GU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414080"/>
            <a:ext cx="9144000" cy="5062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4724640" cy="44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ggested Componen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Ic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ten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Butt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display an image instead of a text label (se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.sun.opengl.util.texture.Tex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ScrollPa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ten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llow scrolling the content when large than viewing ar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Grap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ten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capture the overall graph related functional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related components (may be depend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N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non-rectangular): displays various shapes (circle, square) or content (drawing, text, imag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Ed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non-rectangular): may be invisible (link between the node and the text label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refined taxonomy can be used, 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NodeDraw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NodeTex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NodeIma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N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ggested Layou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Grid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y not be flexible enoug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Absolute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ach component has the specified location and the size within the container in terms of pixels. Changing the container size may render some components hidd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Relative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ach component has the specified location and the size within the container in terms of relative viewing size (visible between 0 and 1). Changing the container size keeps all components visible (scale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Graph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imilar to absolute layout but guaranties the order in which the components are rendered (background image, edge, node, tex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xture Cre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com.sun.opengl.util.texture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java.io.Fil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Texture textur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fil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ure = TextureIO.newTexture(new File(file), 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ure.enabl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ure.bind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TexEnvi(GL2.GL_TEXTURE_ENV, GL2.GL_TEXTURE_ENV_MODE, GL2.GL_REPLAC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ureCoords coords = texture.getImageTexCoord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xture U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Begin(GL.GL_QUAD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TexCoord2f(coords.left(), coords.top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Vertex3f(xmin, ymax, 0.0f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TexCoord2f(coords.left(), coords.bottom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Vertex3f(xmin, ymin, 0.0f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TexCoord2f(coords.right(), coords.bottom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Vertex3f(xmax, ymin, 0.0f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TexCoord2f(coords.right(), coords.top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Vertex3f(xmax, ymax, 0.0f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End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ure.disabl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rac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: single cl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iting: double click (opens a dialog window or shows an Edit Pane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ng: dragging or selection + arrow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rolling/panning: focus + arrow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ing: selection + SHIFT key (can be changed, if necessary) + arrow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sing Swing Componen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ng/JOGL components used for the midterm project (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LJ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pecify an image file to load,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FileChoos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: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java.sun.com/javase/6/docs/api/javax/swing/JFileChooser.htm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any other Swing component is not allow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1:15:53Z</dcterms:created>
  <dc:creator>Denis Gracanin</dc:creator>
  <dc:description/>
  <cp:keywords/>
  <dc:language>en-US</dc:language>
  <cp:lastModifiedBy>Denis Gracanin</cp:lastModifiedBy>
  <cp:lastPrinted>2010-03-17T02:04:24Z</cp:lastPrinted>
  <dcterms:modified xsi:type="dcterms:W3CDTF">2010-04-27T11:19:58Z</dcterms:modified>
  <cp:revision>231</cp:revision>
  <dc:subject>CS 3744 Fall 2009</dc:subject>
  <dc:title>GUI Concepts</dc:title>
</cp:coreProperties>
</file>