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0" y="4058640"/>
            <a:ext cx="91440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76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91680" y="141408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3360" y="141408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0" y="405864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91680" y="405864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3360" y="405864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0" y="295200"/>
            <a:ext cx="9144000" cy="49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576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0" y="4058640"/>
            <a:ext cx="91440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0" y="4058640"/>
            <a:ext cx="91440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576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91680" y="141408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83360" y="141408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0" y="405864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91680" y="405864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83360" y="405864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0" y="295200"/>
            <a:ext cx="9144000" cy="49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576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0" y="4058640"/>
            <a:ext cx="91440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0" y="4058640"/>
            <a:ext cx="91440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8576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091680" y="141408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83360" y="141408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0" y="405864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091680" y="405864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183360" y="405864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295200"/>
            <a:ext cx="9144000" cy="49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76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0" y="4058640"/>
            <a:ext cx="91440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Group 2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3" name="Rectangle 3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4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900080" cy="316080"/>
          </a:xfrm>
          <a:prstGeom prst="rect">
            <a:avLst/>
          </a:prstGeom>
          <a:ln w="0">
            <a:noFill/>
          </a:ln>
        </p:spPr>
      </p:pic>
      <p:sp>
        <p:nvSpPr>
          <p:cNvPr id="6" name="Line 5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44" name="Rectangle 3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Rectangle 4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900080" cy="316080"/>
          </a:xfrm>
          <a:prstGeom prst="rect">
            <a:avLst/>
          </a:prstGeom>
          <a:ln w="0">
            <a:noFill/>
          </a:ln>
        </p:spPr>
      </p:pic>
      <p:sp>
        <p:nvSpPr>
          <p:cNvPr id="47" name="Line 5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ectangle 161"/>
          <p:cNvSpPr/>
          <p:nvPr/>
        </p:nvSpPr>
        <p:spPr>
          <a:xfrm>
            <a:off x="0" y="6540480"/>
            <a:ext cx="91440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© 2010 Denis Gracan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88" name="Rectangle 3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Rectangle 4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9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900080" cy="316080"/>
          </a:xfrm>
          <a:prstGeom prst="rect">
            <a:avLst/>
          </a:prstGeom>
          <a:ln w="0">
            <a:noFill/>
          </a:ln>
        </p:spPr>
      </p:pic>
      <p:sp>
        <p:nvSpPr>
          <p:cNvPr id="91" name="Line 5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Line 5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ctangle 161"/>
          <p:cNvSpPr/>
          <p:nvPr/>
        </p:nvSpPr>
        <p:spPr>
          <a:xfrm>
            <a:off x="0" y="6540480"/>
            <a:ext cx="85345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S 3744: Intera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8534520" y="6477120"/>
            <a:ext cx="6094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6305-7E8A-4553-A9EE-CA2FB8CFE456}" type="slidenum">
              <a:rPr b="0" lang="en-US" sz="1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S 374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UI Programming &amp; Graphic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4 – Interac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HomeworkFive.java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 V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omeworkFive hw5 = new HomeworkFive("Homework Five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w5.pack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w5.setSize(400, 400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w5.setVisible(tr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omework Five Examp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ly, the layout is similar to the one I Homework Fou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click removes the second label and changes the layo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click adds the second label and changes the layo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quent clicks alternate between 2. and 3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76320" y="37339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"/>
          <p:cNvPicPr/>
          <p:nvPr/>
        </p:nvPicPr>
        <p:blipFill>
          <a:blip r:embed="rId2"/>
          <a:stretch/>
        </p:blipFill>
        <p:spPr>
          <a:xfrm>
            <a:off x="3200400" y="37339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3"/>
          <a:stretch/>
        </p:blipFill>
        <p:spPr>
          <a:xfrm>
            <a:off x="6324480" y="373392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64" name="Right Arrow 6"/>
          <p:cNvSpPr/>
          <p:nvPr/>
        </p:nvSpPr>
        <p:spPr>
          <a:xfrm>
            <a:off x="2895480" y="4952880"/>
            <a:ext cx="22860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eft-Right Arrow 7"/>
          <p:cNvSpPr/>
          <p:nvPr/>
        </p:nvSpPr>
        <p:spPr>
          <a:xfrm>
            <a:off x="5943600" y="4952880"/>
            <a:ext cx="380880" cy="304920"/>
          </a:xfrm>
          <a:prstGeom prst="leftRightArrow">
            <a:avLst>
              <a:gd name="adj1" fmla="val 50000"/>
              <a:gd name="adj2" fmla="val 49964"/>
            </a:avLst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mplementing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VTButt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98000"/>
          </a:bodyPr>
          <a:p>
            <a:pPr marL="37476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elds: contain information about the text to be displayed (always centered), state (pressed or not) and the list of action listen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476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or: a single parameter constructor (button text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476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71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ter/setter for tex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71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tion listeners related methods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…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…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get…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71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ssVTActionListener(VTActionEvent e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– iterates through the listener list and invokes the corresponding meth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476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n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71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ssEvent(VTEvent e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– reacts to receiv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TMouseEv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71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aint(GLAutoDrawable d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– renders pressed and released butt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71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oString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– provides string represent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71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ainting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VTButt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paint with the original background co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released, paint with slightly darker (0.9) background color. When pressed, paint with darker (0.6) background co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released, paint with darker (0.6) background color. When pressed, paint with slightly darker (0.9) background co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esse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ag to deci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lag is changed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ssEvent(…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572000" y="3733920"/>
            <a:ext cx="4343400" cy="2612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952880" y="4114800"/>
            <a:ext cx="3581640" cy="1905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Straight Connector 6"/>
          <p:cNvSpPr/>
          <p:nvPr/>
        </p:nvSpPr>
        <p:spPr>
          <a:xfrm flipV="1">
            <a:off x="4572000" y="6019920"/>
            <a:ext cx="38088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Straight Connector 8"/>
          <p:cNvSpPr/>
          <p:nvPr/>
        </p:nvSpPr>
        <p:spPr>
          <a:xfrm flipV="1">
            <a:off x="8534520" y="37339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Box 9"/>
          <p:cNvSpPr/>
          <p:nvPr/>
        </p:nvSpPr>
        <p:spPr>
          <a:xfrm>
            <a:off x="6580800" y="4800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Box 10"/>
          <p:cNvSpPr/>
          <p:nvPr/>
        </p:nvSpPr>
        <p:spPr>
          <a:xfrm>
            <a:off x="4570920" y="3733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Box 11"/>
          <p:cNvSpPr/>
          <p:nvPr/>
        </p:nvSpPr>
        <p:spPr>
          <a:xfrm>
            <a:off x="8533440" y="5867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VTActionEvent.jav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cs3744.gui.even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cs3744.gui.VTComponen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VTActionEvent extends VTEve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TActionEvent(VTComponent sourc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per(sourc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VTActionListener.jav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cs3744.gui.even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erface VTActionListener extends VTEventListe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actionPerformed(VTActionEvent 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VTActionAdapter.jav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cs3744.gui.even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abstract class VTActionAdapter implements VTActionListener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actionPerformed(VTActionEvent 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ynamic Chang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96000"/>
          </a:bodyPr>
          <a:p>
            <a:pPr marL="36720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the containment hierarchy changes (add/remove component, change layout), a new layout of the GUI is need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720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i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ag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Compon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wo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23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Valid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– return the value of the fla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23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validate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– sets the flag to false and invokes parent’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validate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720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VTFrame, whenever an event is dispatched, 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entPan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invalid, re-do layout and invoke displ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720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entPane.dispatchEvent(new VTMouseEvent(null, e.getX(), e.getY(), type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720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!contentPane.isValid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720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entPane.doLayou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720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.display(); }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720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ther Changes: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VTCompon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eners lists for key and mouse events and related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ility metho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boolean contains(int x,int y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hecking if the coordinates fit within the compon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ispatchEvent(VTEvent e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handle ev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ssEvent(VTEvent e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proces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ssVTKeyEvent(VTKeyEvent e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process key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ss VTMouseEvent(VTMouseEvent e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process mouse ev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ther Changes: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VTContain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ssEv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rotected void processEvent(VTEvent 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terator iterator = children.iterat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iterator.hasNext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(VTComponent) iterator.next()).processEvent(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uper.processEvent(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1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36" name="Rectangle 2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Rectangle 3"/>
            <p:cNvSpPr/>
            <p:nvPr/>
          </p:nvSpPr>
          <p:spPr>
            <a:xfrm>
              <a:off x="0" y="0"/>
              <a:ext cx="914400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8" name="Line 4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0" y="-11160"/>
            <a:ext cx="1900080" cy="3160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uss semantic events and support for butt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 support for dynamic layout in a frame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ther Chang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ever the layout has changed in a method, invo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validate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voking setter methods for visual properties of a component, including color, text, size, location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lacing layout or changing layout propert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idterm Projec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term project builds on Homeworks Four and Five and has the following compon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te implementation of event related classes (mainly key event related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 support for focus (where the key events go) by remembering the coordinates of the last mouse click ev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TTextFiel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 text component that allows for the editing of a single line of text. It generate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TActionEv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hen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key is press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T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has the focus and receives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key, it will generat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TActionEv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time you create the main (tester) cl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idtermProject.jav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The tester class should clearly demonstrate all the functionality implemented. You can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omeworkFive.jav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 a starting poi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VTTextFiel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responsible for API specific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decide what fields, methods, and constructors are need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has to fit in the existing framework provided in the reference code for Homework Fi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llow practices and conventions described and used in lectu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lt Java API for the corresponding AWT/Swing compon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idterm Project Grad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doc document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er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idtermProject.jav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field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TextField.jav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y event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KeyEvent.jav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d button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Button.jav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upport for key events and reaction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y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text focu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all implementation and stabil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mework Five is part of the Midterm Project implement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joy your spring break but don’t forget to work on the homework and the midterm pro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200" name="Rectangle 2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Rectangle 3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2" name="Line 4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chedule for March 15-18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ch 15: a make-up lecture scheduled in the evening. Review of the midterm exam material – McBryde 113 8:00pm – 9:15p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ch 16: a regular lecture used for the midterm ex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ch 17: a make-up lecture scheduled in the evening. Review of several cross-platform GUI frameworks. material – McBryde 113 8:00pm – 9:15p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ch 18: a regular lecture. Review of the GUI frameworks for mobile devices. The last GUI related lectu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omework Fiv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a button GUI component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Butt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at generat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ActionEven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the button was clicked (no interaction with the keyboard required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he correspond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ActionListene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the singl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ctionPerformed(VTActionEvent e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he correspond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ActionAdap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dynamic layout changes (add/remove component, change layout) and component changes (background/foreground colors, text, alignment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ngle tester (main) class tes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meworkFive.jav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HomeworkFive.java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 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cs3744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cs3744.gui.VTButto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cs3744.gui.VTColor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cs3744.gui.VTFrame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cs3744.gui.VTGridLayou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cs3744.gui.VTLabel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cs3744.gui.VTPanel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cs3744.gui.event.VTActionAdapter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cs3744.gui.event.VTActionEven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HomeworkFive.java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 I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HomeworkFive extends VTFrame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VTLabel label1, label2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VTPanel panel2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boolean state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HomeworkFive(String title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uper(title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Components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e = true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HomeworkFive.java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 II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utton.addVTActionListener(new VTActionAdapter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@Overr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actionPerformed(VTActionEvent 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stat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1.setText("It Works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1.setAlignment(VTLabel.Alignment.CENTE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1.setBackground(VTColor.PINK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1.setForeground(VTColor.B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2.remove(label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2.setLayout(new VTGridLayout(1, 1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HomeworkFive.java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 IV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98000"/>
          </a:bodyPr>
          <a:p>
            <a:pPr marL="37476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476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1.setText("It Still Works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476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1.setAlignment(VTLabel.Alignment.RIGH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476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1.setBackground(VTColor.B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476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1.setForeground(VTColor.PINK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476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2.setAlignment(VTLabel.Alignment.LEF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476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2.setBackground(VTColor.WHIT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476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2.setForeground(VTColor.CYA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476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2.add(label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476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2.setLayout(new VTGridLayout(2, 1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476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476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e = !stat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476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 }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HomeworkFive.java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 V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utton.setBackground(VTColor.GREE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utton.setForeground(VTColor.RED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1.add(butto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2 = new VTPanel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2.setLayout(new VTGridLayout(1, 2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1 = new VTLabel("Second", VTLabel.Alignment.LEF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1.setBackground(VTColor.B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1.setForeground(VTColor.YELLOW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2.add(label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2 = new VTLabel("Third", VTLabel.Alignment.RIGH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2.setBackground(VTColor.MAGENTA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2.setForeground(VTColor.ORANG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2.add(label2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1.add(panel2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etContentPane().add(panel1);   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6:17:56Z</dcterms:created>
  <dc:creator>Denis Gracanin</dc:creator>
  <dc:description/>
  <cp:keywords/>
  <dc:language>en-US</dc:language>
  <cp:lastModifiedBy>Denis Gracanin</cp:lastModifiedBy>
  <cp:lastPrinted>2010-02-27T19:30:59Z</cp:lastPrinted>
  <dcterms:modified xsi:type="dcterms:W3CDTF">2010-03-08T17:23:54Z</dcterms:modified>
  <cp:revision>174</cp:revision>
  <dc:subject>CS 3744 Fall 2009</dc:subject>
  <dc:title>GUI Concepts</dc:title>
</cp:coreProperties>
</file>